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2.png" ContentType="image/png"/>
  <Override PartName="/ppt/media/image29.jpeg" ContentType="image/jpe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42.wmf" ContentType="image/x-wmf"/>
  <Override PartName="/ppt/media/image9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41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11A-17E4-4D76-BC25-9A9DB7745D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2BB-1310-4D33-8F12-30EBD75E172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4E40-7087-4C9E-94B4-36387F3159F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87BA-E725-43FE-9C12-09AD0A37303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los carbohidratos, los lípidos se componen de carbono, hidrógeno y oxígeno, la diferencia radica en que la cantidad de hidrógeno es superior a la cantidad de átomos de oxígeno, confiriendo a estos compuestos propiedades químicas distintas. Los lípidos o grasas son insolubles en agua y constituyen una fuente de energía muy eficiente, ya que proporciona el doble de la energía de los carbohidratos y las proteínas. La importancia biológica de los lípidos radica en ser compuestos que sirven para regular la temperatura corporal y que funcionan como reserva energ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nimales sólo pueden almacenar pequeñas cantidades de carbohidratos, por eso, los que no se pueden almacenar en el hígado en forma de glucógeno, se transforman en grasas y se almacenan en el tejido adiposo. El tejido adiposo actúa como una capa aislante térmica y como sustancia de reserva energética muy importante en todos los animales y el homb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lípidos se clasifican en dos grup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E7D73-5CBC-404B-A761-FF58850E4F6D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A39-7844-48F7-85BD-2A8773CF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20A-9A71-4992-99E5-70D9586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27B78-7F9C-4A22-ABF8-0793AC7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8897B-C723-4982-9508-4672D18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2C6C-8250-4821-BAF5-1951873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C055-E4DF-4785-BA74-3DA7D65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68295-B542-4ACF-A07A-75E8865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03C62-C909-4432-85A1-EC137B6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1F989-A1A7-429E-AE8A-34163AA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A2941-865E-49CD-B14F-BA3A7AA9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29C81-72F6-4CA9-98CD-1D9CE701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34B25-E08D-4988-A9AF-D6C3CD19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CE0-FF3C-4162-97E2-7D771C9E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F4920-B50B-4E04-BC29-0AACAC2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2FD9F-5EF7-472C-B176-DFB037E9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1A759-8CBD-496D-82AF-F9C480B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0B0E4-3145-4FC0-8597-56A427B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51AEB-A07D-4D42-A696-DBEB2155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1724-1097-4468-A32A-DE6D6078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5F2A0-01D2-4FC8-8F36-116C13A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9452C-CE33-45E6-BFE0-436C6F4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25D4E-E3CF-4331-8711-B635394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18222-1FD2-4796-9C26-18EC3B8B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D76-B432-43B7-843D-4679EA80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98E94-F5AF-4D59-80FE-179920BD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8B10B-C474-40D5-8806-23ACB9A0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6DAB0-8479-43E1-8A49-1AF73A5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CD3A-116B-4914-AF01-1612EA1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F3BD6-9042-497B-90A0-20DD0B45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7B07E-12AA-42BC-9864-0128370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A4589-E4A4-47A5-8827-5F262941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558E9-5BCD-4C74-A699-3D33375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8D8D7-F4DA-462D-9368-396BAD6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17EA3-CFEA-4DF1-8CA2-922245A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CDD-E651-4710-967B-0D1427C8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EF2BC-40DA-47D4-AC12-B8D4B29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C349-350E-4C3D-89AC-F6565A78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C21C9-D42E-473B-A029-6B0A71A0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27CCA-883A-47F9-B5CE-F50BC533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C4ADB-5ACA-4323-8F77-505DB30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CBDE7-3B89-4CF4-A97E-DC8C059B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224DE-2C00-44E0-AADD-CA1DD0A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917C8-14BB-4DE9-8A82-5EE9AF20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057EA-B290-449A-B67F-0338D5E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5B13E-04DB-4B6F-B1FA-49BC90C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5B02-5939-4827-B021-438FDA8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CC2C3-0119-40CD-96F0-F698140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05D61-1B3F-4AEE-B441-7D6F9ED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284FB-D5F0-4C6E-9090-43D85C6A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24117-CB56-42C4-A729-57204B0F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D3EE-A6D7-4697-A575-003D7B74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FC003-2A91-485C-B660-03665A75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64985-AA86-4611-96B7-CADC65F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4F8F8-CBD7-4B78-8B51-3F5EC2F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25205-0444-4F31-9E81-8A617A7D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0753B-904D-49D3-8606-96DF04BE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C19D-94AF-4BAF-8B05-1425CAA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79E00-89FD-4691-A415-FDC035A6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03009-DFCA-4B9B-BF2F-E37D773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5C9B7-46A8-437A-A698-ECAD4A2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2CE54-2895-4A71-869B-3D44E09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7565D-121D-4337-945A-51AD677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578F4-4A83-4553-83A0-8583FD94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7D2B8-F2F5-40EB-89D4-ED703B26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50B4-ACCE-4359-83BD-F07D63E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614A-F60A-4751-82BB-1037CC4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EC52-66A0-43C3-9092-269ECB4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CD1-555F-44A2-9789-212B263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5FD-9175-4A75-8A1B-295FB25D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7AD-52E3-4945-89FE-D08776E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F757-74D5-4328-BDEC-28F8328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16D0-67D8-4140-9892-BBD90FE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6B1E-DAAE-489A-9FD9-FB188D13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3274-D316-4DCF-8106-76F748C5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4974-03C7-4307-AB2B-72887821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AD4D-8038-48E2-8901-A4C13B9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9668-2567-48FD-863D-3D1AEE4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D0F3-D047-433B-85F1-47537CF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EB39-2C0C-42F3-8796-B6420B52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A5D-BBB2-4D6A-AC60-20BEBAC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A5C8-0F82-4605-962F-507A9DDC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2F05-D506-4B48-9372-34425CB6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479B-AA82-45F0-BA47-26708ED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11C6-217D-4B1F-966F-9EB26F3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696B-87DF-4DDD-B66A-54F11D1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4439-4C49-41D7-A860-2C7F99E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A5A5-FF57-4B79-A60E-46FBC913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9C7A-ED79-49EF-AD96-46D445E0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5583-97EA-4E0E-9C52-DF3A168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639C-F3D3-4124-AB27-79770B8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E2F-71A0-4902-890B-F096B92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854BD-0183-4E9E-A7D9-FC0CACFE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62F2-7755-4C7A-BAC0-BABB4EE4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54C7-3B01-49DE-AFF5-0E8F7C2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7E0E-10D8-45EE-B2B0-E83C763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A971-C97A-4C9D-BD5A-48617E9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3C1C-2497-4521-A592-5DDEADA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F7A5-6502-465E-B468-9FD4F3D5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DE2E-9A29-4951-A76C-D176E723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6C35-843D-4958-A14E-5D35CA91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A809-157D-491D-93D6-A3C2D6C9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E6E-284D-4EA9-B9DF-10D31E8E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8067A-0684-4AA5-A674-4C14F9D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78A2-FD34-4E44-8FCA-4A3207C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020F-DAE6-4DCE-9C8B-819E1A4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4082-6709-43B9-A573-0FAFE06F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D6B2-B994-4517-BF36-1E5C0D0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3455-C144-4C83-96D8-55F10AD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B3730-4756-407E-BDE4-1D5D87D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DDAC-5A28-4A0F-B19A-DB5082A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AD4B-8380-41D4-A52F-B714FF3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1B26-6F21-4D84-9142-0A6C9E32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84F-028E-4AD4-91BD-AB1A53C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CDB0-6311-4B8E-B227-3BCCBDB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C9AC-3976-4648-8ED6-91BFDB86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3EB70-E4AF-4456-8772-2460A4F2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DC10-7B91-4E20-AED0-494263E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25AF-DB99-4796-A75B-0C9C8F7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D5B0-F544-4E96-A919-553040A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3EE8E-6F9E-490B-A682-F92EA448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AE43-8AA2-4DBC-BBA0-A223E170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97AE-0BCD-49C3-9111-021583EA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27AA-6E5A-453C-A434-3F17DBB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FC7-F5DD-4738-83EC-52CB05F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DBBA6-D432-4DA4-896D-835C2CF9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7E42-C9F6-4FAC-BFB3-80F282D5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0550-222D-44AC-950D-9144B824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045D-DD67-45F8-B044-D4C1D6D1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76698-E0B9-4AEF-B452-4506494D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71151-FC99-4C84-B4C7-B9BA6935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8965-938E-4D95-A123-7072B75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3E75-77A7-4118-9534-DAE9F45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7343-AF9C-4305-8915-2F7BD74C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BD54-95C4-462E-B2BA-CD86305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B0F-2BF5-40A0-9AD4-0A03327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D35C-8154-4932-98C2-AD2DBE0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9B31A-B0CE-4458-9B1C-81DAA94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CA3E6-24A6-498F-A17B-0F0F9C3C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B9DF-1575-4094-8CD8-2DCF1036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89EE-ED24-480E-BD03-F1927CA6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E3DEB-6D24-473A-8CFE-A62B695E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8907C-018F-41A0-8CF8-2C85AF9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5B19-815D-415E-A98A-B8BCE3C9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2313-EBDB-4EA5-8CFB-5EC2696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16E7-1F00-4191-9A26-EF8A9262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B51-A59F-43AD-A474-9B0DFBF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B1007-9730-4222-AB52-0E6B3F4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5DEA6-71FC-4B90-AF17-302F0B0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0A03-D16E-4040-9C1D-9578123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3CD1-3A26-4F7D-A488-576DDFC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0C569-434A-4597-A1F5-06CC6169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CAF54-2DFB-456E-8F42-ADE3515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37AC-7292-4BF5-A936-CB596D2E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F5BD-D732-440D-BBA5-EA5676FE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D9BE7-0191-48D1-A517-4853450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436AD-1D32-4C73-896A-C81CEB01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D349-4908-4771-8B9C-CAB1AFFBE03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3CC0-3FBD-481A-9EC5-56609E39CE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B95-541F-495C-B8D1-9EF55B88E7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206-CEB4-468A-A937-4ED40C1FDF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CE34-2A57-48DE-8E77-2341842BA2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C81-3CD1-4739-829A-EA30A74547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E341-037F-4C7B-8C2B-F756FE9FD1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C87-C171-43BA-A550-CFDA2109D5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4624-AF21-479A-B9A1-0EE3B071A0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5EAB-E8B9-46B1-9D6B-1896B831E7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53D-4E4F-4A92-BD17-900B2BD20F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0D4-4B06-443A-BBA9-6BB8B7476B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6FC-B7DF-4139-86AC-8483FD39B7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imento" TargetMode="External"/><Relationship Id="rId2" Type="http://schemas.openxmlformats.org/officeDocument/2006/relationships/hyperlink" Target="http://es.wikipedia.org/wiki/Alimento" TargetMode="External"/><Relationship Id="rId3" Type="http://schemas.openxmlformats.org/officeDocument/2006/relationships/hyperlink" Target="http://es.wikipedia.org/wiki/Alimento" TargetMode="External"/><Relationship Id="rId4" Type="http://schemas.openxmlformats.org/officeDocument/2006/relationships/hyperlink" Target="http://es.wikipedia.org/wiki/Alimento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imento" TargetMode="External"/><Relationship Id="rId2" Type="http://schemas.openxmlformats.org/officeDocument/2006/relationships/hyperlink" Target="http://es.wikipedia.org/wiki/Alimento" TargetMode="External"/><Relationship Id="rId3" Type="http://schemas.openxmlformats.org/officeDocument/2006/relationships/hyperlink" Target="http://es.wikipedia.org/wiki/Alimento" TargetMode="External"/><Relationship Id="rId4" Type="http://schemas.openxmlformats.org/officeDocument/2006/relationships/hyperlink" Target="http://es.wikipedia.org/wiki/Alimento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482760" y="115236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IA y LCyTA)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Macronutrientes. Lípidos. Digestión y absorción. Rol como nutrientes. Resíntesis intestinal de triglicéridos. Metabolismo de lípidos. Transporte de lípidos. Rol de las lipoproteínas. Composición química y funciones.</a:t>
            </a:r>
            <a:r>
              <a:rPr b="0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LBM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LIPIDOS. Digestión y absorción de lípidos. METABOLISMO DE LIPIDOS: Transporte de lípidos en el sistema circulatorio. Lipoproteínas. Composición. Apolipoproteínas. Metabolismo de los quilomicrones, de las lipoproteínas de muy baja densidad (VLDL) y de baja densidad (LDL). Lipoproteína (a) y riesgo de ateroesclerosis. Metabolismo de las lipoproteínas de alta densidad (HDL)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ción metabólica de los lípidos: hidrólisis de los triglicéridos por lipasas dependiente de AMPc. OXIDACION DE ACIDOS GRASOS: saturados e insaturados de número par de átomos de carbono (beta-oxidación). Regulación de la utilización de sustrato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2 CuadroTexto"/>
          <p:cNvSpPr/>
          <p:nvPr/>
        </p:nvSpPr>
        <p:spPr>
          <a:xfrm>
            <a:off x="900000" y="1424160"/>
            <a:ext cx="36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lípidos presentes en los alimentos se encuentran generalmente en mayor concentración en aceites, manteca, yema de huevo. En general están presentes como triglicéridos (grasas neutras), ácidos grasos y sus derivados, fosfolípidos, esteroles y vitaminas liposolub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H1104301-Fats-SPL"/>
          <p:cNvPicPr/>
          <p:nvPr/>
        </p:nvPicPr>
        <p:blipFill>
          <a:blip r:embed="rId1"/>
          <a:stretch/>
        </p:blipFill>
        <p:spPr>
          <a:xfrm>
            <a:off x="5219640" y="1411200"/>
            <a:ext cx="29527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squema General de la Digestión Lipíd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Cuadro de texto 5"/>
          <p:cNvSpPr/>
          <p:nvPr/>
        </p:nvSpPr>
        <p:spPr>
          <a:xfrm>
            <a:off x="539640" y="1214280"/>
            <a:ext cx="78487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96" name="Group 3"/>
          <p:cNvGrpSpPr/>
          <p:nvPr/>
        </p:nvGrpSpPr>
        <p:grpSpPr>
          <a:xfrm>
            <a:off x="2843280" y="1792440"/>
            <a:ext cx="6265080" cy="368280"/>
            <a:chOff x="2843280" y="1792440"/>
            <a:chExt cx="6265080" cy="368280"/>
          </a:xfrm>
        </p:grpSpPr>
        <p:sp>
          <p:nvSpPr>
            <p:cNvPr id="597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5625000" y="1792440"/>
              <a:ext cx="34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salival (muy poca actividad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" name="Group 6"/>
          <p:cNvGrpSpPr/>
          <p:nvPr/>
        </p:nvGrpSpPr>
        <p:grpSpPr>
          <a:xfrm>
            <a:off x="3132000" y="4340160"/>
            <a:ext cx="4912920" cy="1587960"/>
            <a:chOff x="3132000" y="4340160"/>
            <a:chExt cx="4912920" cy="1587960"/>
          </a:xfrm>
        </p:grpSpPr>
        <p:sp>
          <p:nvSpPr>
            <p:cNvPr id="600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8"/>
            <p:cNvSpPr/>
            <p:nvPr/>
          </p:nvSpPr>
          <p:spPr>
            <a:xfrm>
              <a:off x="5759640" y="4340160"/>
              <a:ext cx="2285280" cy="15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b050"/>
                </a:buClr>
                <a:buFont typeface="Calibri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2" name="Group 9"/>
          <p:cNvGrpSpPr/>
          <p:nvPr/>
        </p:nvGrpSpPr>
        <p:grpSpPr>
          <a:xfrm>
            <a:off x="3564000" y="3521160"/>
            <a:ext cx="4980240" cy="368280"/>
            <a:chOff x="3564000" y="3521160"/>
            <a:chExt cx="4980240" cy="368280"/>
          </a:xfrm>
        </p:grpSpPr>
        <p:sp>
          <p:nvSpPr>
            <p:cNvPr id="603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Text Box 11"/>
            <p:cNvSpPr/>
            <p:nvPr/>
          </p:nvSpPr>
          <p:spPr>
            <a:xfrm>
              <a:off x="5436000" y="352116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13 CuadroTexto"/>
          <p:cNvSpPr/>
          <p:nvPr/>
        </p:nvSpPr>
        <p:spPr>
          <a:xfrm>
            <a:off x="1945080" y="21420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  <a:ea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Rounded MT Bold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43588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609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 Rounded MT Bold"/>
              </a:rPr>
              <a:t>Enzimas Diges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23640" y="1285920"/>
            <a:ext cx="85690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600" spc="-1" strike="noStrike" u="sng">
                <a:solidFill>
                  <a:srgbClr val="0033cc"/>
                </a:solidFill>
                <a:uFillTx/>
                <a:latin typeface="Arial Rounded MT Bold"/>
              </a:rPr>
              <a:t> lipasa</a:t>
            </a:r>
            <a:r>
              <a:rPr b="0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 : </a:t>
            </a:r>
            <a:r>
              <a:rPr b="1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600" spc="-1" strike="noStrike" u="sng" baseline="-25000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600" spc="-1" strike="noStrike">
                <a:solidFill>
                  <a:srgbClr val="00cc00"/>
                </a:solidFill>
                <a:latin typeface="Arial Rounded MT Bold"/>
                <a:ea typeface="Arial"/>
              </a:rPr>
              <a:t>: Actúa sobre el C 2 de fosfolípi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b0f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600" spc="-1" strike="noStrike">
                <a:solidFill>
                  <a:srgbClr val="00b0f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ángulo 109"/>
          <p:cNvSpPr/>
          <p:nvPr/>
        </p:nvSpPr>
        <p:spPr>
          <a:xfrm rot="16200000">
            <a:off x="7661880" y="33195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upo 136"/>
          <p:cNvGrpSpPr/>
          <p:nvPr/>
        </p:nvGrpSpPr>
        <p:grpSpPr>
          <a:xfrm>
            <a:off x="7020000" y="1928880"/>
            <a:ext cx="2116440" cy="799200"/>
            <a:chOff x="7020000" y="1928880"/>
            <a:chExt cx="2116440" cy="799200"/>
          </a:xfrm>
        </p:grpSpPr>
        <p:grpSp>
          <p:nvGrpSpPr>
            <p:cNvPr id="629" name="Grupo 135"/>
            <p:cNvGrpSpPr/>
            <p:nvPr/>
          </p:nvGrpSpPr>
          <p:grpSpPr>
            <a:xfrm>
              <a:off x="7020000" y="1928880"/>
              <a:ext cx="2116440" cy="799200"/>
              <a:chOff x="7020000" y="1928880"/>
              <a:chExt cx="2116440" cy="799200"/>
            </a:xfrm>
          </p:grpSpPr>
          <p:grpSp>
            <p:nvGrpSpPr>
              <p:cNvPr id="630" name="Grupo 134"/>
              <p:cNvGrpSpPr/>
              <p:nvPr/>
            </p:nvGrpSpPr>
            <p:grpSpPr>
              <a:xfrm>
                <a:off x="7020000" y="1928880"/>
                <a:ext cx="1701720" cy="795960"/>
                <a:chOff x="7020000" y="1928880"/>
                <a:chExt cx="1701720" cy="795960"/>
              </a:xfrm>
            </p:grpSpPr>
            <p:sp>
              <p:nvSpPr>
                <p:cNvPr id="631" name="Rectángulo 56"/>
                <p:cNvSpPr/>
                <p:nvPr/>
              </p:nvSpPr>
              <p:spPr>
                <a:xfrm>
                  <a:off x="7020000" y="23637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Rectángulo 75"/>
                <p:cNvSpPr/>
                <p:nvPr/>
              </p:nvSpPr>
              <p:spPr>
                <a:xfrm>
                  <a:off x="7542000" y="23572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Rectángulo 76"/>
                <p:cNvSpPr/>
                <p:nvPr/>
              </p:nvSpPr>
              <p:spPr>
                <a:xfrm>
                  <a:off x="7853400" y="23540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4" name="Rectángulo 81"/>
                <p:cNvSpPr/>
                <p:nvPr/>
              </p:nvSpPr>
              <p:spPr>
                <a:xfrm>
                  <a:off x="7524720" y="19288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5" name="Línea 77"/>
                <p:cNvSpPr/>
                <p:nvPr/>
              </p:nvSpPr>
              <p:spPr>
                <a:xfrm>
                  <a:off x="7835760" y="24987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6" name="Línea 78"/>
                <p:cNvSpPr/>
                <p:nvPr/>
              </p:nvSpPr>
              <p:spPr>
                <a:xfrm>
                  <a:off x="7424640" y="24908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Línea 79"/>
                <p:cNvSpPr/>
                <p:nvPr/>
              </p:nvSpPr>
              <p:spPr>
                <a:xfrm>
                  <a:off x="7667640" y="22478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8" name="Línea 80"/>
                <p:cNvSpPr/>
                <p:nvPr/>
              </p:nvSpPr>
              <p:spPr>
                <a:xfrm>
                  <a:off x="7723080" y="22464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9" name="Rectángulo 83"/>
              <p:cNvSpPr/>
              <p:nvPr/>
            </p:nvSpPr>
            <p:spPr>
              <a:xfrm>
                <a:off x="8597520" y="235728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Línea 82"/>
            <p:cNvSpPr/>
            <p:nvPr/>
          </p:nvSpPr>
          <p:spPr>
            <a:xfrm>
              <a:off x="8483760" y="25066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Línea 91"/>
          <p:cNvSpPr/>
          <p:nvPr/>
        </p:nvSpPr>
        <p:spPr>
          <a:xfrm>
            <a:off x="7818480" y="355752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Cuadro de texto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Hidrólisis de Triglicéridos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i="1" lang="en-US" sz="3200" spc="-1" strike="noStrike">
                <a:solidFill>
                  <a:srgbClr val="ff0000"/>
                </a:solidFill>
                <a:latin typeface="Arial Rounded MT Bold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Cuadro de texto 114"/>
          <p:cNvSpPr/>
          <p:nvPr/>
        </p:nvSpPr>
        <p:spPr>
          <a:xfrm>
            <a:off x="4427640" y="206676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ángulo 132"/>
          <p:cNvSpPr/>
          <p:nvPr/>
        </p:nvSpPr>
        <p:spPr>
          <a:xfrm>
            <a:off x="4650840" y="451476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upo 138"/>
          <p:cNvGrpSpPr/>
          <p:nvPr/>
        </p:nvGrpSpPr>
        <p:grpSpPr>
          <a:xfrm>
            <a:off x="7051680" y="4299120"/>
            <a:ext cx="2046600" cy="714960"/>
            <a:chOff x="7051680" y="4299120"/>
            <a:chExt cx="2046600" cy="714960"/>
          </a:xfrm>
        </p:grpSpPr>
        <p:grpSp>
          <p:nvGrpSpPr>
            <p:cNvPr id="646" name="Grupo 137"/>
            <p:cNvGrpSpPr/>
            <p:nvPr/>
          </p:nvGrpSpPr>
          <p:grpSpPr>
            <a:xfrm>
              <a:off x="7051680" y="4299120"/>
              <a:ext cx="2046600" cy="714960"/>
              <a:chOff x="7051680" y="4299120"/>
              <a:chExt cx="2046600" cy="714960"/>
            </a:xfrm>
          </p:grpSpPr>
          <p:grpSp>
            <p:nvGrpSpPr>
              <p:cNvPr id="647" name="Grupo 131"/>
              <p:cNvGrpSpPr/>
              <p:nvPr/>
            </p:nvGrpSpPr>
            <p:grpSpPr>
              <a:xfrm>
                <a:off x="7051680" y="4299120"/>
                <a:ext cx="2046600" cy="714960"/>
                <a:chOff x="7051680" y="4299120"/>
                <a:chExt cx="2046600" cy="714960"/>
              </a:xfrm>
            </p:grpSpPr>
            <p:sp>
              <p:nvSpPr>
                <p:cNvPr id="648" name="Rectángulo 74"/>
                <p:cNvSpPr/>
                <p:nvPr/>
              </p:nvSpPr>
              <p:spPr>
                <a:xfrm>
                  <a:off x="7051680" y="46083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Rectángulo 94"/>
                <p:cNvSpPr/>
                <p:nvPr/>
              </p:nvSpPr>
              <p:spPr>
                <a:xfrm>
                  <a:off x="7786800" y="4622760"/>
                  <a:ext cx="80316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Rectángulo 99"/>
                <p:cNvSpPr/>
                <p:nvPr/>
              </p:nvSpPr>
              <p:spPr>
                <a:xfrm>
                  <a:off x="7513560" y="42991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Rectángulo 101"/>
                <p:cNvSpPr/>
                <p:nvPr/>
              </p:nvSpPr>
              <p:spPr>
                <a:xfrm>
                  <a:off x="8559360" y="464328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Rectángulo 93"/>
              <p:cNvSpPr/>
              <p:nvPr/>
            </p:nvSpPr>
            <p:spPr>
              <a:xfrm>
                <a:off x="7505640" y="46069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Línea 100"/>
              <p:cNvSpPr/>
              <p:nvPr/>
            </p:nvSpPr>
            <p:spPr>
              <a:xfrm>
                <a:off x="8488440" y="4778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4" name="Línea 95"/>
            <p:cNvSpPr/>
            <p:nvPr/>
          </p:nvSpPr>
          <p:spPr>
            <a:xfrm>
              <a:off x="7746840" y="47689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Línea 96"/>
            <p:cNvSpPr/>
            <p:nvPr/>
          </p:nvSpPr>
          <p:spPr>
            <a:xfrm>
              <a:off x="7462800" y="47610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ínea 97"/>
            <p:cNvSpPr/>
            <p:nvPr/>
          </p:nvSpPr>
          <p:spPr>
            <a:xfrm>
              <a:off x="7648560" y="45543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Línea 98"/>
            <p:cNvSpPr/>
            <p:nvPr/>
          </p:nvSpPr>
          <p:spPr>
            <a:xfrm>
              <a:off x="7704000" y="45529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133 Grupo"/>
          <p:cNvGrpSpPr/>
          <p:nvPr/>
        </p:nvGrpSpPr>
        <p:grpSpPr>
          <a:xfrm>
            <a:off x="3059280" y="2857680"/>
            <a:ext cx="2160360" cy="1512720"/>
            <a:chOff x="3059280" y="2857680"/>
            <a:chExt cx="2160360" cy="1512720"/>
          </a:xfrm>
        </p:grpSpPr>
        <p:sp>
          <p:nvSpPr>
            <p:cNvPr id="659" name="Rectángulo 107"/>
            <p:cNvSpPr/>
            <p:nvPr/>
          </p:nvSpPr>
          <p:spPr>
            <a:xfrm>
              <a:off x="3059280" y="2857680"/>
              <a:ext cx="1896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 6-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Línea 133"/>
            <p:cNvSpPr/>
            <p:nvPr/>
          </p:nvSpPr>
          <p:spPr>
            <a:xfrm>
              <a:off x="3143160" y="350064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Rectángulo 151"/>
            <p:cNvSpPr/>
            <p:nvPr/>
          </p:nvSpPr>
          <p:spPr>
            <a:xfrm>
              <a:off x="4932360" y="4010040"/>
              <a:ext cx="2872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upo 178"/>
          <p:cNvGrpSpPr/>
          <p:nvPr/>
        </p:nvGrpSpPr>
        <p:grpSpPr>
          <a:xfrm>
            <a:off x="331920" y="2286000"/>
            <a:ext cx="2739960" cy="2626560"/>
            <a:chOff x="331920" y="2286000"/>
            <a:chExt cx="2739960" cy="2626560"/>
          </a:xfrm>
        </p:grpSpPr>
        <p:sp>
          <p:nvSpPr>
            <p:cNvPr id="663" name="Rectángulo 47"/>
            <p:cNvSpPr/>
            <p:nvPr/>
          </p:nvSpPr>
          <p:spPr>
            <a:xfrm>
              <a:off x="1308240" y="3606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4" name="Grupo 177"/>
            <p:cNvGrpSpPr/>
            <p:nvPr/>
          </p:nvGrpSpPr>
          <p:grpSpPr>
            <a:xfrm>
              <a:off x="331920" y="2286000"/>
              <a:ext cx="2739960" cy="2626560"/>
              <a:chOff x="331920" y="2286000"/>
              <a:chExt cx="2739960" cy="2626560"/>
            </a:xfrm>
          </p:grpSpPr>
          <p:sp>
            <p:nvSpPr>
              <p:cNvPr id="665" name="Rectángulo 49"/>
              <p:cNvSpPr/>
              <p:nvPr/>
            </p:nvSpPr>
            <p:spPr>
              <a:xfrm>
                <a:off x="2498400" y="3868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ángulo 163"/>
              <p:cNvSpPr/>
              <p:nvPr/>
            </p:nvSpPr>
            <p:spPr>
              <a:xfrm>
                <a:off x="1698840" y="3868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Línea 164"/>
              <p:cNvSpPr/>
              <p:nvPr/>
            </p:nvSpPr>
            <p:spPr>
              <a:xfrm>
                <a:off x="2370240" y="4013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8" name="Grupo 176"/>
              <p:cNvGrpSpPr/>
              <p:nvPr/>
            </p:nvGrpSpPr>
            <p:grpSpPr>
              <a:xfrm>
                <a:off x="331920" y="2286000"/>
                <a:ext cx="2739960" cy="2626560"/>
                <a:chOff x="331920" y="2286000"/>
                <a:chExt cx="2739960" cy="2626560"/>
              </a:xfrm>
            </p:grpSpPr>
            <p:sp>
              <p:nvSpPr>
                <p:cNvPr id="669" name="Rectángulo 13"/>
                <p:cNvSpPr/>
                <p:nvPr/>
              </p:nvSpPr>
              <p:spPr>
                <a:xfrm>
                  <a:off x="655560" y="4251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Rectángulo 12"/>
                <p:cNvSpPr/>
                <p:nvPr/>
              </p:nvSpPr>
              <p:spPr>
                <a:xfrm>
                  <a:off x="642960" y="3907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Línea 14"/>
                <p:cNvSpPr/>
                <p:nvPr/>
              </p:nvSpPr>
              <p:spPr>
                <a:xfrm>
                  <a:off x="817560" y="4167360"/>
                  <a:ext cx="0" cy="13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Rectángulo 17"/>
                <p:cNvSpPr/>
                <p:nvPr/>
              </p:nvSpPr>
              <p:spPr>
                <a:xfrm>
                  <a:off x="339840" y="3916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Línea 18"/>
                <p:cNvSpPr/>
                <p:nvPr/>
              </p:nvSpPr>
              <p:spPr>
                <a:xfrm>
                  <a:off x="595440" y="4062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22"/>
                <p:cNvSpPr/>
                <p:nvPr/>
              </p:nvSpPr>
              <p:spPr>
                <a:xfrm>
                  <a:off x="1033560" y="3915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Rectángulo 41"/>
                <p:cNvSpPr/>
                <p:nvPr/>
              </p:nvSpPr>
              <p:spPr>
                <a:xfrm>
                  <a:off x="1299960" y="3913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Línea 43"/>
                <p:cNvSpPr/>
                <p:nvPr/>
              </p:nvSpPr>
              <p:spPr>
                <a:xfrm>
                  <a:off x="1541520" y="4075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5"/>
                <p:cNvSpPr/>
                <p:nvPr/>
              </p:nvSpPr>
              <p:spPr>
                <a:xfrm>
                  <a:off x="919080" y="4057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Línea 46"/>
                <p:cNvSpPr/>
                <p:nvPr/>
              </p:nvSpPr>
              <p:spPr>
                <a:xfrm>
                  <a:off x="1498680" y="388008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9" name="Grupo 170"/>
                <p:cNvGrpSpPr/>
                <p:nvPr/>
              </p:nvGrpSpPr>
              <p:grpSpPr>
                <a:xfrm>
                  <a:off x="331920" y="2286000"/>
                  <a:ext cx="2739960" cy="2626560"/>
                  <a:chOff x="331920" y="2286000"/>
                  <a:chExt cx="2739960" cy="2626560"/>
                </a:xfrm>
              </p:grpSpPr>
              <p:sp>
                <p:nvSpPr>
                  <p:cNvPr id="680" name="Rectángulo 40"/>
                  <p:cNvSpPr/>
                  <p:nvPr/>
                </p:nvSpPr>
                <p:spPr>
                  <a:xfrm>
                    <a:off x="2498400" y="3294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1" name="Rectángulo 32"/>
                  <p:cNvSpPr/>
                  <p:nvPr/>
                </p:nvSpPr>
                <p:spPr>
                  <a:xfrm>
                    <a:off x="1303200" y="3294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Rectángulo 38"/>
                  <p:cNvSpPr/>
                  <p:nvPr/>
                </p:nvSpPr>
                <p:spPr>
                  <a:xfrm>
                    <a:off x="1290600" y="2968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Línea 34"/>
                  <p:cNvSpPr/>
                  <p:nvPr/>
                </p:nvSpPr>
                <p:spPr>
                  <a:xfrm>
                    <a:off x="1541520" y="3422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Línea 35"/>
                  <p:cNvSpPr/>
                  <p:nvPr/>
                </p:nvSpPr>
                <p:spPr>
                  <a:xfrm>
                    <a:off x="1243080" y="3452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Línea 36"/>
                  <p:cNvSpPr/>
                  <p:nvPr/>
                </p:nvSpPr>
                <p:spPr>
                  <a:xfrm>
                    <a:off x="1428840" y="3245040"/>
                    <a:ext cx="144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Línea 37"/>
                  <p:cNvSpPr/>
                  <p:nvPr/>
                </p:nvSpPr>
                <p:spPr>
                  <a:xfrm>
                    <a:off x="1484280" y="3243240"/>
                    <a:ext cx="0" cy="12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Rectángulo 162"/>
                  <p:cNvSpPr/>
                  <p:nvPr/>
                </p:nvSpPr>
                <p:spPr>
                  <a:xfrm>
                    <a:off x="1698840" y="3294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165"/>
                  <p:cNvSpPr/>
                  <p:nvPr/>
                </p:nvSpPr>
                <p:spPr>
                  <a:xfrm>
                    <a:off x="2370240" y="3436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89" name="Grupo 169"/>
                  <p:cNvGrpSpPr/>
                  <p:nvPr/>
                </p:nvGrpSpPr>
                <p:grpSpPr>
                  <a:xfrm>
                    <a:off x="331920" y="2286000"/>
                    <a:ext cx="2739960" cy="2626560"/>
                    <a:chOff x="331920" y="2286000"/>
                    <a:chExt cx="2739960" cy="2626560"/>
                  </a:xfrm>
                </p:grpSpPr>
                <p:sp>
                  <p:nvSpPr>
                    <p:cNvPr id="690" name="Rectángulo 29"/>
                    <p:cNvSpPr/>
                    <p:nvPr/>
                  </p:nvSpPr>
                  <p:spPr>
                    <a:xfrm>
                      <a:off x="1306440" y="228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ángulo 24"/>
                    <p:cNvSpPr/>
                    <p:nvPr/>
                  </p:nvSpPr>
                  <p:spPr>
                    <a:xfrm>
                      <a:off x="1609920" y="2639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Línea 30"/>
                    <p:cNvSpPr/>
                    <p:nvPr/>
                  </p:nvSpPr>
                  <p:spPr>
                    <a:xfrm>
                      <a:off x="2284560" y="2813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ángulo 31"/>
                    <p:cNvSpPr/>
                    <p:nvPr/>
                  </p:nvSpPr>
                  <p:spPr>
                    <a:xfrm>
                      <a:off x="2355480" y="2644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4" name="Línea 27"/>
                    <p:cNvSpPr/>
                    <p:nvPr/>
                  </p:nvSpPr>
                  <p:spPr>
                    <a:xfrm>
                      <a:off x="1427400" y="2575080"/>
                      <a:ext cx="1440" cy="101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Línea 28"/>
                    <p:cNvSpPr/>
                    <p:nvPr/>
                  </p:nvSpPr>
                  <p:spPr>
                    <a:xfrm>
                      <a:off x="1484280" y="2573280"/>
                      <a:ext cx="0" cy="122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Rectángulo 23"/>
                    <p:cNvSpPr/>
                    <p:nvPr/>
                  </p:nvSpPr>
                  <p:spPr>
                    <a:xfrm>
                      <a:off x="1298520" y="2643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7" name="Grupo 168"/>
                    <p:cNvGrpSpPr/>
                    <p:nvPr/>
                  </p:nvGrpSpPr>
                  <p:grpSpPr>
                    <a:xfrm>
                      <a:off x="331920" y="2311560"/>
                      <a:ext cx="2739960" cy="2601000"/>
                      <a:chOff x="331920" y="2311560"/>
                      <a:chExt cx="2739960" cy="2601000"/>
                    </a:xfrm>
                  </p:grpSpPr>
                  <p:sp>
                    <p:nvSpPr>
                      <p:cNvPr id="698" name="Rectángulo 21"/>
                      <p:cNvSpPr/>
                      <p:nvPr/>
                    </p:nvSpPr>
                    <p:spPr>
                      <a:xfrm>
                        <a:off x="1011240" y="327204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9" name="Rectángulo 5"/>
                      <p:cNvSpPr/>
                      <p:nvPr/>
                    </p:nvSpPr>
                    <p:spPr>
                      <a:xfrm>
                        <a:off x="331920" y="32828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0" name="Rectángulo 2"/>
                      <p:cNvSpPr/>
                      <p:nvPr/>
                    </p:nvSpPr>
                    <p:spPr>
                      <a:xfrm>
                        <a:off x="657360" y="32688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1" name="Línea 8"/>
                      <p:cNvSpPr/>
                      <p:nvPr/>
                    </p:nvSpPr>
                    <p:spPr>
                      <a:xfrm>
                        <a:off x="941400" y="3422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2" name="Línea 9"/>
                      <p:cNvSpPr/>
                      <p:nvPr/>
                    </p:nvSpPr>
                    <p:spPr>
                      <a:xfrm>
                        <a:off x="604800" y="3467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3" name="Grupo 167"/>
                      <p:cNvGrpSpPr/>
                      <p:nvPr/>
                    </p:nvGrpSpPr>
                    <p:grpSpPr>
                      <a:xfrm>
                        <a:off x="333360" y="2311560"/>
                        <a:ext cx="2738520" cy="2601000"/>
                        <a:chOff x="333360" y="2311560"/>
                        <a:chExt cx="2738520" cy="2601000"/>
                      </a:xfrm>
                    </p:grpSpPr>
                    <p:sp>
                      <p:nvSpPr>
                        <p:cNvPr id="704" name="Rectángulo 108"/>
                        <p:cNvSpPr/>
                        <p:nvPr/>
                      </p:nvSpPr>
                      <p:spPr>
                        <a:xfrm>
                          <a:off x="1050840" y="4572000"/>
                          <a:ext cx="202104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5" name="Rectángulo 4"/>
                        <p:cNvSpPr/>
                        <p:nvPr/>
                      </p:nvSpPr>
                      <p:spPr>
                        <a:xfrm>
                          <a:off x="974880" y="263988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6" name="Rectángulo 3"/>
                        <p:cNvSpPr/>
                        <p:nvPr/>
                      </p:nvSpPr>
                      <p:spPr>
                        <a:xfrm>
                          <a:off x="655560" y="266688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7" name="Rectángulo 11"/>
                        <p:cNvSpPr/>
                        <p:nvPr/>
                      </p:nvSpPr>
                      <p:spPr>
                        <a:xfrm>
                          <a:off x="666720" y="2311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8" name="Rectángulo 19"/>
                        <p:cNvSpPr/>
                        <p:nvPr/>
                      </p:nvSpPr>
                      <p:spPr>
                        <a:xfrm>
                          <a:off x="333360" y="264492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Línea 20"/>
                        <p:cNvSpPr/>
                        <p:nvPr/>
                      </p:nvSpPr>
                      <p:spPr>
                        <a:xfrm>
                          <a:off x="547920" y="278136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Línea 6"/>
                        <p:cNvSpPr/>
                        <p:nvPr/>
                      </p:nvSpPr>
                      <p:spPr>
                        <a:xfrm>
                          <a:off x="804960" y="2571840"/>
                          <a:ext cx="0" cy="141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Línea 10"/>
                        <p:cNvSpPr/>
                        <p:nvPr/>
                      </p:nvSpPr>
                      <p:spPr>
                        <a:xfrm>
                          <a:off x="900360" y="27846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Línea 26"/>
                        <p:cNvSpPr/>
                        <p:nvPr/>
                      </p:nvSpPr>
                      <p:spPr>
                        <a:xfrm>
                          <a:off x="1257480" y="27972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3" name="Línea 159"/>
                      <p:cNvSpPr/>
                      <p:nvPr/>
                    </p:nvSpPr>
                    <p:spPr>
                      <a:xfrm>
                        <a:off x="835200" y="2933640"/>
                        <a:ext cx="0" cy="358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4" name="Línea 160"/>
                      <p:cNvSpPr/>
                      <p:nvPr/>
                    </p:nvSpPr>
                    <p:spPr>
                      <a:xfrm>
                        <a:off x="835200" y="35830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5" name="Línea 25"/>
                    <p:cNvSpPr/>
                    <p:nvPr/>
                  </p:nvSpPr>
                  <p:spPr>
                    <a:xfrm>
                      <a:off x="1541520" y="2805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16" name="Línea 44"/>
                <p:cNvSpPr/>
                <p:nvPr/>
              </p:nvSpPr>
              <p:spPr>
                <a:xfrm>
                  <a:off x="1243080" y="4086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7" name="Línea 175"/>
                <p:cNvSpPr/>
                <p:nvPr/>
              </p:nvSpPr>
              <p:spPr>
                <a:xfrm>
                  <a:off x="1447920" y="386712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18" name="134 Grupo"/>
          <p:cNvGrpSpPr/>
          <p:nvPr/>
        </p:nvGrpSpPr>
        <p:grpSpPr>
          <a:xfrm>
            <a:off x="4913280" y="2708280"/>
            <a:ext cx="2726280" cy="1727280"/>
            <a:chOff x="4913280" y="2708280"/>
            <a:chExt cx="2726280" cy="1727280"/>
          </a:xfrm>
        </p:grpSpPr>
        <p:sp>
          <p:nvSpPr>
            <p:cNvPr id="719" name="Línea 58"/>
            <p:cNvSpPr/>
            <p:nvPr/>
          </p:nvSpPr>
          <p:spPr>
            <a:xfrm>
              <a:off x="6354720" y="2708280"/>
              <a:ext cx="0" cy="14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Línea 66"/>
            <p:cNvSpPr/>
            <p:nvPr/>
          </p:nvSpPr>
          <p:spPr>
            <a:xfrm>
              <a:off x="6353280" y="4295880"/>
              <a:ext cx="0" cy="139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Línea 67"/>
            <p:cNvSpPr/>
            <p:nvPr/>
          </p:nvSpPr>
          <p:spPr>
            <a:xfrm>
              <a:off x="6469200" y="4194360"/>
              <a:ext cx="122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Línea 70"/>
            <p:cNvSpPr/>
            <p:nvPr/>
          </p:nvSpPr>
          <p:spPr>
            <a:xfrm>
              <a:off x="6130800" y="419112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Línea 72"/>
            <p:cNvSpPr/>
            <p:nvPr/>
          </p:nvSpPr>
          <p:spPr>
            <a:xfrm>
              <a:off x="6124680" y="291780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Grupo 155"/>
            <p:cNvGrpSpPr/>
            <p:nvPr/>
          </p:nvGrpSpPr>
          <p:grpSpPr>
            <a:xfrm>
              <a:off x="4913280" y="2786040"/>
              <a:ext cx="2726280" cy="1618200"/>
              <a:chOff x="4913280" y="2786040"/>
              <a:chExt cx="2726280" cy="1618200"/>
            </a:xfrm>
          </p:grpSpPr>
          <p:grpSp>
            <p:nvGrpSpPr>
              <p:cNvPr id="725" name="Grupo 153"/>
              <p:cNvGrpSpPr/>
              <p:nvPr/>
            </p:nvGrpSpPr>
            <p:grpSpPr>
              <a:xfrm>
                <a:off x="4913280" y="2786040"/>
                <a:ext cx="2726280" cy="1618200"/>
                <a:chOff x="4913280" y="2786040"/>
                <a:chExt cx="2726280" cy="1618200"/>
              </a:xfrm>
            </p:grpSpPr>
            <p:grpSp>
              <p:nvGrpSpPr>
                <p:cNvPr id="726" name="Grupo 150"/>
                <p:cNvGrpSpPr/>
                <p:nvPr/>
              </p:nvGrpSpPr>
              <p:grpSpPr>
                <a:xfrm>
                  <a:off x="4913280" y="2786040"/>
                  <a:ext cx="2726280" cy="1618200"/>
                  <a:chOff x="4913280" y="2786040"/>
                  <a:chExt cx="2726280" cy="1618200"/>
                </a:xfrm>
              </p:grpSpPr>
              <p:grpSp>
                <p:nvGrpSpPr>
                  <p:cNvPr id="727" name="Grupo 141"/>
                  <p:cNvGrpSpPr/>
                  <p:nvPr/>
                </p:nvGrpSpPr>
                <p:grpSpPr>
                  <a:xfrm>
                    <a:off x="4913280" y="2786040"/>
                    <a:ext cx="2726280" cy="1618200"/>
                    <a:chOff x="4913280" y="2786040"/>
                    <a:chExt cx="2726280" cy="1618200"/>
                  </a:xfrm>
                </p:grpSpPr>
                <p:grpSp>
                  <p:nvGrpSpPr>
                    <p:cNvPr id="728" name="Grupo 140"/>
                    <p:cNvGrpSpPr/>
                    <p:nvPr/>
                  </p:nvGrpSpPr>
                  <p:grpSpPr>
                    <a:xfrm>
                      <a:off x="4913280" y="2786040"/>
                      <a:ext cx="2726280" cy="1618200"/>
                      <a:chOff x="4913280" y="2786040"/>
                      <a:chExt cx="2726280" cy="1618200"/>
                    </a:xfrm>
                  </p:grpSpPr>
                  <p:grpSp>
                    <p:nvGrpSpPr>
                      <p:cNvPr id="729" name="Grupo 139"/>
                      <p:cNvGrpSpPr/>
                      <p:nvPr/>
                    </p:nvGrpSpPr>
                    <p:grpSpPr>
                      <a:xfrm>
                        <a:off x="4913280" y="2786040"/>
                        <a:ext cx="2726280" cy="1618200"/>
                        <a:chOff x="4913280" y="2786040"/>
                        <a:chExt cx="2726280" cy="1618200"/>
                      </a:xfrm>
                    </p:grpSpPr>
                    <p:sp>
                      <p:nvSpPr>
                        <p:cNvPr id="730" name="Rectángulo 55"/>
                        <p:cNvSpPr/>
                        <p:nvPr/>
                      </p:nvSpPr>
                      <p:spPr>
                        <a:xfrm>
                          <a:off x="5183280" y="27936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1" name="Rectángulo 57"/>
                        <p:cNvSpPr/>
                        <p:nvPr/>
                      </p:nvSpPr>
                      <p:spPr>
                        <a:xfrm>
                          <a:off x="4913280" y="33573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2" name="Rectángulo 84"/>
                        <p:cNvSpPr/>
                        <p:nvPr/>
                      </p:nvSpPr>
                      <p:spPr>
                        <a:xfrm>
                          <a:off x="5891040" y="33858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3" name="Rectángulo 85"/>
                        <p:cNvSpPr/>
                        <p:nvPr/>
                      </p:nvSpPr>
                      <p:spPr>
                        <a:xfrm>
                          <a:off x="6300720" y="338580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4" name="Rectángulo 90"/>
                        <p:cNvSpPr/>
                        <p:nvPr/>
                      </p:nvSpPr>
                      <p:spPr>
                        <a:xfrm>
                          <a:off x="5867280" y="3047760"/>
                          <a:ext cx="3160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5" name="Rectángulo 92"/>
                        <p:cNvSpPr/>
                        <p:nvPr/>
                      </p:nvSpPr>
                      <p:spPr>
                        <a:xfrm>
                          <a:off x="7100640" y="338580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6" name="Rectángulo 103"/>
                        <p:cNvSpPr/>
                        <p:nvPr/>
                      </p:nvSpPr>
                      <p:spPr>
                        <a:xfrm>
                          <a:off x="4916160" y="400968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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7" name="Rectángulo 106"/>
                        <p:cNvSpPr/>
                        <p:nvPr/>
                      </p:nvSpPr>
                      <p:spPr>
                        <a:xfrm>
                          <a:off x="5435640" y="4033440"/>
                          <a:ext cx="43164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8" name="Rectángulo 54"/>
                        <p:cNvSpPr/>
                        <p:nvPr/>
                      </p:nvSpPr>
                      <p:spPr>
                        <a:xfrm>
                          <a:off x="5148360" y="3362040"/>
                          <a:ext cx="3301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9" name="Línea 59"/>
                        <p:cNvSpPr/>
                        <p:nvPr/>
                      </p:nvSpPr>
                      <p:spPr>
                        <a:xfrm>
                          <a:off x="5292720" y="3074760"/>
                          <a:ext cx="0" cy="369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0" name="Línea 68"/>
                        <p:cNvSpPr/>
                        <p:nvPr/>
                      </p:nvSpPr>
                      <p:spPr>
                        <a:xfrm>
                          <a:off x="5292720" y="3649320"/>
                          <a:ext cx="0" cy="369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1" name="Línea 87"/>
                        <p:cNvSpPr/>
                        <p:nvPr/>
                      </p:nvSpPr>
                      <p:spPr>
                        <a:xfrm>
                          <a:off x="7020000" y="360180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2" name="Línea 86"/>
                        <p:cNvSpPr/>
                        <p:nvPr/>
                      </p:nvSpPr>
                      <p:spPr>
                        <a:xfrm>
                          <a:off x="6156360" y="357804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3" name="Rectángulo 73"/>
                        <p:cNvSpPr/>
                        <p:nvPr/>
                      </p:nvSpPr>
                      <p:spPr>
                        <a:xfrm>
                          <a:off x="5508720" y="3362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4" name="Rectángulo 105"/>
                        <p:cNvSpPr/>
                        <p:nvPr/>
                      </p:nvSpPr>
                      <p:spPr>
                        <a:xfrm>
                          <a:off x="5435640" y="2786040"/>
                          <a:ext cx="4381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45" name="Rectángulo 102"/>
                      <p:cNvSpPr/>
                      <p:nvPr/>
                    </p:nvSpPr>
                    <p:spPr>
                      <a:xfrm>
                        <a:off x="5364000" y="3001680"/>
                        <a:ext cx="301680" cy="36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6" name="Rectángulo 104"/>
                      <p:cNvSpPr/>
                      <p:nvPr/>
                    </p:nvSpPr>
                    <p:spPr>
                      <a:xfrm>
                        <a:off x="5294160" y="3601800"/>
                        <a:ext cx="2919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7" name="Línea 61"/>
                      <p:cNvSpPr/>
                      <p:nvPr/>
                    </p:nvSpPr>
                    <p:spPr>
                      <a:xfrm>
                        <a:off x="579600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8" name="Línea 88"/>
                      <p:cNvSpPr/>
                      <p:nvPr/>
                    </p:nvSpPr>
                    <p:spPr>
                      <a:xfrm>
                        <a:off x="6012000" y="329076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9" name="Línea 89"/>
                      <p:cNvSpPr/>
                      <p:nvPr/>
                    </p:nvSpPr>
                    <p:spPr>
                      <a:xfrm>
                        <a:off x="6067440" y="3301920"/>
                        <a:ext cx="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0" name="Línea 60"/>
                      <p:cNvSpPr/>
                      <p:nvPr/>
                    </p:nvSpPr>
                    <p:spPr>
                      <a:xfrm>
                        <a:off x="543564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51" name="Rectángulo 64"/>
                    <p:cNvSpPr/>
                    <p:nvPr/>
                  </p:nvSpPr>
                  <p:spPr>
                    <a:xfrm>
                      <a:off x="5170320" y="40417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52" name="Rectángulo 149"/>
                  <p:cNvSpPr/>
                  <p:nvPr/>
                </p:nvSpPr>
                <p:spPr>
                  <a:xfrm>
                    <a:off x="4932360" y="4017960"/>
                    <a:ext cx="287280" cy="36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53" name="Rectángulo 152"/>
                <p:cNvSpPr/>
                <p:nvPr/>
              </p:nvSpPr>
              <p:spPr>
                <a:xfrm>
                  <a:off x="5364000" y="3657600"/>
                  <a:ext cx="216000" cy="28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4" name="Rectángulo 154"/>
              <p:cNvSpPr/>
              <p:nvPr/>
            </p:nvSpPr>
            <p:spPr>
              <a:xfrm>
                <a:off x="5364000" y="3154320"/>
                <a:ext cx="28764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5" name="Cuadro de texto 182"/>
            <p:cNvSpPr/>
            <p:nvPr/>
          </p:nvSpPr>
          <p:spPr>
            <a:xfrm>
              <a:off x="5143320" y="2786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Cuadro de texto 183"/>
            <p:cNvSpPr/>
            <p:nvPr/>
          </p:nvSpPr>
          <p:spPr>
            <a:xfrm>
              <a:off x="5148000" y="4010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59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62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33cc33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Grupo 4"/>
          <p:cNvGrpSpPr/>
          <p:nvPr/>
        </p:nvGrpSpPr>
        <p:grpSpPr>
          <a:xfrm>
            <a:off x="3428280" y="4356720"/>
            <a:ext cx="1728000" cy="2103840"/>
            <a:chOff x="3428280" y="4356720"/>
            <a:chExt cx="1728000" cy="2103840"/>
          </a:xfrm>
        </p:grpSpPr>
        <p:sp>
          <p:nvSpPr>
            <p:cNvPr id="765" name="Cuadro de texto 14"/>
            <p:cNvSpPr/>
            <p:nvPr/>
          </p:nvSpPr>
          <p:spPr>
            <a:xfrm>
              <a:off x="3429000" y="6000840"/>
              <a:ext cx="1727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b0f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orma libre 16"/>
            <p:cNvSpPr/>
            <p:nvPr/>
          </p:nvSpPr>
          <p:spPr>
            <a:xfrm flipH="1" rot="10518000">
              <a:off x="3492720" y="4368600"/>
              <a:ext cx="353880" cy="1584360"/>
            </a:xfrm>
            <a:custGeom>
              <a:avLst/>
              <a:gdLst>
                <a:gd name="textAreaLeft" fmla="*/ -360 w 353880"/>
                <a:gd name="textAreaRight" fmla="*/ 353880 w 3538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Grupo 3"/>
          <p:cNvGrpSpPr/>
          <p:nvPr/>
        </p:nvGrpSpPr>
        <p:grpSpPr>
          <a:xfrm>
            <a:off x="4500360" y="2286000"/>
            <a:ext cx="1768680" cy="2084400"/>
            <a:chOff x="4500360" y="2286000"/>
            <a:chExt cx="1768680" cy="2084400"/>
          </a:xfrm>
        </p:grpSpPr>
        <p:sp>
          <p:nvSpPr>
            <p:cNvPr id="768" name="Cuadro de texto 15"/>
            <p:cNvSpPr/>
            <p:nvPr/>
          </p:nvSpPr>
          <p:spPr>
            <a:xfrm>
              <a:off x="4643280" y="2286000"/>
              <a:ext cx="162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Est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orma libre 16"/>
            <p:cNvSpPr/>
            <p:nvPr/>
          </p:nvSpPr>
          <p:spPr>
            <a:xfrm flipH="1">
              <a:off x="4500000" y="2786040"/>
              <a:ext cx="500040" cy="1584360"/>
            </a:xfrm>
            <a:custGeom>
              <a:avLst/>
              <a:gdLst>
                <a:gd name="textAreaLeft" fmla="*/ -360 w 500040"/>
                <a:gd name="textAreaRight" fmla="*/ 500040 w 5000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3 Rectángulo"/>
          <p:cNvSpPr/>
          <p:nvPr/>
        </p:nvSpPr>
        <p:spPr>
          <a:xfrm>
            <a:off x="285840" y="100008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 y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Cuadro de texto 5"/>
          <p:cNvSpPr/>
          <p:nvPr/>
        </p:nvSpPr>
        <p:spPr>
          <a:xfrm>
            <a:off x="214200" y="363600"/>
            <a:ext cx="885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Cuadro de texto 6"/>
          <p:cNvSpPr/>
          <p:nvPr/>
        </p:nvSpPr>
        <p:spPr>
          <a:xfrm>
            <a:off x="755640" y="200016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74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6" name="Cuadro de texto 8"/>
          <p:cNvSpPr/>
          <p:nvPr/>
        </p:nvSpPr>
        <p:spPr>
          <a:xfrm>
            <a:off x="857160" y="1101600"/>
            <a:ext cx="7572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Existirían proteínas de membrana que los fijan y transport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Cuadro de texto 10"/>
          <p:cNvSpPr/>
          <p:nvPr/>
        </p:nvSpPr>
        <p:spPr>
          <a:xfrm>
            <a:off x="230040" y="32860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CuadroTexto"/>
          <p:cNvSpPr/>
          <p:nvPr/>
        </p:nvSpPr>
        <p:spPr>
          <a:xfrm>
            <a:off x="2497320" y="30312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MACRONUTRIENTES: LI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ángulo 2"/>
          <p:cNvSpPr/>
          <p:nvPr/>
        </p:nvSpPr>
        <p:spPr>
          <a:xfrm>
            <a:off x="1116000" y="909720"/>
            <a:ext cx="698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Calibri"/>
                <a:ea typeface="Arial"/>
              </a:rPr>
              <a:t>Funciones de los lípidos en el organ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ángulo 3"/>
          <p:cNvSpPr/>
          <p:nvPr/>
        </p:nvSpPr>
        <p:spPr>
          <a:xfrm>
            <a:off x="395280" y="141300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Fuente de reserva energética (Triglicéri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  <a:ea typeface="Arial"/>
              </a:rPr>
              <a:t>Componentes de membranas (Fosfolípidos y C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  <a:ea typeface="Arial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  <a:ea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a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a808"/>
                </a:solidFill>
                <a:latin typeface="Calibri"/>
                <a:ea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  <a:ea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  <a:ea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  <a:ea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  <a:ea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80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81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86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87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0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91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4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797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0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801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5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811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2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813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G                 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G                        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0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rc 45"/>
          <p:cNvSpPr/>
          <p:nvPr/>
        </p:nvSpPr>
        <p:spPr>
          <a:xfrm rot="5400000">
            <a:off x="3329640" y="3771000"/>
            <a:ext cx="539640" cy="360360"/>
          </a:xfrm>
          <a:custGeom>
            <a:avLst/>
            <a:gdLst>
              <a:gd name="textAreaLeft" fmla="*/ 0 w 539640"/>
              <a:gd name="textAreaRight" fmla="*/ 540000 w 53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823" name="Arc 47"/>
            <p:cNvSpPr/>
            <p:nvPr/>
          </p:nvSpPr>
          <p:spPr>
            <a:xfrm rot="17181600">
              <a:off x="2829600" y="3558240"/>
              <a:ext cx="536400" cy="3603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</a:path>
                <a:path stroke="0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Elipse 2"/>
          <p:cNvSpPr/>
          <p:nvPr/>
        </p:nvSpPr>
        <p:spPr>
          <a:xfrm>
            <a:off x="5494320" y="3357720"/>
            <a:ext cx="244440" cy="23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Elipse 48"/>
          <p:cNvSpPr/>
          <p:nvPr/>
        </p:nvSpPr>
        <p:spPr>
          <a:xfrm>
            <a:off x="5435640" y="4133880"/>
            <a:ext cx="395280" cy="231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0"/>
          <p:cNvSpPr/>
          <p:nvPr/>
        </p:nvSpPr>
        <p:spPr>
          <a:xfrm>
            <a:off x="96840" y="25704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Biosíntesis de Triglicér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Picture 4" descr="Monoacylglycerol pathway of triacylglycerol biosynthesis"/>
          <p:cNvPicPr/>
          <p:nvPr/>
        </p:nvPicPr>
        <p:blipFill>
          <a:blip r:embed="rId1"/>
          <a:stretch/>
        </p:blipFill>
        <p:spPr>
          <a:xfrm>
            <a:off x="142920" y="3044880"/>
            <a:ext cx="8532720" cy="347976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10"/>
          <p:cNvGrpSpPr/>
          <p:nvPr/>
        </p:nvGrpSpPr>
        <p:grpSpPr>
          <a:xfrm>
            <a:off x="1908000" y="3773520"/>
            <a:ext cx="1857600" cy="772560"/>
            <a:chOff x="1908000" y="3773520"/>
            <a:chExt cx="1857600" cy="772560"/>
          </a:xfrm>
        </p:grpSpPr>
        <p:sp>
          <p:nvSpPr>
            <p:cNvPr id="830" name="Cuadro de texto 10"/>
            <p:cNvSpPr/>
            <p:nvPr/>
          </p:nvSpPr>
          <p:spPr>
            <a:xfrm>
              <a:off x="1908000" y="3773520"/>
              <a:ext cx="185760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rc 8"/>
            <p:cNvSpPr/>
            <p:nvPr/>
          </p:nvSpPr>
          <p:spPr>
            <a:xfrm rot="10800000">
              <a:off x="2844720" y="4114440"/>
              <a:ext cx="432000" cy="431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2" name="Group 11"/>
          <p:cNvGrpSpPr/>
          <p:nvPr/>
        </p:nvGrpSpPr>
        <p:grpSpPr>
          <a:xfrm>
            <a:off x="4946760" y="3825720"/>
            <a:ext cx="1857240" cy="649080"/>
            <a:chOff x="4946760" y="3825720"/>
            <a:chExt cx="1857240" cy="649080"/>
          </a:xfrm>
        </p:grpSpPr>
        <p:sp>
          <p:nvSpPr>
            <p:cNvPr id="833" name="Cuadro de texto 10"/>
            <p:cNvSpPr/>
            <p:nvPr/>
          </p:nvSpPr>
          <p:spPr>
            <a:xfrm>
              <a:off x="4946760" y="3825720"/>
              <a:ext cx="185724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Arc 9"/>
            <p:cNvSpPr/>
            <p:nvPr/>
          </p:nvSpPr>
          <p:spPr>
            <a:xfrm rot="10800000">
              <a:off x="5868720" y="4185720"/>
              <a:ext cx="431640" cy="289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2"/>
          <p:cNvSpPr/>
          <p:nvPr/>
        </p:nvSpPr>
        <p:spPr>
          <a:xfrm>
            <a:off x="2328120" y="4546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3"/>
          <p:cNvSpPr/>
          <p:nvPr/>
        </p:nvSpPr>
        <p:spPr>
          <a:xfrm>
            <a:off x="5280840" y="447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7" name="Group 14"/>
          <p:cNvGrpSpPr/>
          <p:nvPr/>
        </p:nvGrpSpPr>
        <p:grpSpPr>
          <a:xfrm>
            <a:off x="250920" y="1477800"/>
            <a:ext cx="8820000" cy="1160280"/>
            <a:chOff x="250920" y="1477800"/>
            <a:chExt cx="8820000" cy="1160280"/>
          </a:xfrm>
        </p:grpSpPr>
        <p:sp>
          <p:nvSpPr>
            <p:cNvPr id="838" name="Cuadro de texto 4"/>
            <p:cNvSpPr/>
            <p:nvPr/>
          </p:nvSpPr>
          <p:spPr>
            <a:xfrm>
              <a:off x="5938560" y="2269800"/>
              <a:ext cx="17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Cuadro de texto 6"/>
            <p:cNvSpPr/>
            <p:nvPr/>
          </p:nvSpPr>
          <p:spPr>
            <a:xfrm>
              <a:off x="3778200" y="14778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o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Cuadro de texto 8"/>
            <p:cNvSpPr/>
            <p:nvPr/>
          </p:nvSpPr>
          <p:spPr>
            <a:xfrm>
              <a:off x="3706560" y="2269800"/>
              <a:ext cx="23760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TP    AMP + PP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Autoforma 9"/>
            <p:cNvSpPr/>
            <p:nvPr/>
          </p:nvSpPr>
          <p:spPr>
            <a:xfrm>
              <a:off x="4087440" y="2053800"/>
              <a:ext cx="709560" cy="287280"/>
            </a:xfrm>
            <a:custGeom>
              <a:avLst/>
              <a:gdLst>
                <a:gd name="textAreaLeft" fmla="*/ 145080 w 709560"/>
                <a:gd name="textAreaRight" fmla="*/ 521640 w 7095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29" hR="21600" stAng="10800000" swAng="5400000"/>
                  <a:lnTo>
                    <a:pt x="11458" y="0"/>
                  </a:lnTo>
                  <a:arcTo wR="8829" hR="21600" stAng="-5400000" swAng="3431669"/>
                  <a:lnTo>
                    <a:pt x="21309" y="16097"/>
                  </a:lnTo>
                  <a:lnTo>
                    <a:pt x="18972" y="21600"/>
                  </a:lnTo>
                  <a:lnTo>
                    <a:pt x="16052" y="16097"/>
                  </a:lnTo>
                  <a:lnTo>
                    <a:pt x="17366" y="16097"/>
                  </a:lnTo>
                  <a:arcTo wR="8829" hR="21600" stAng="-1968331" swAng="-3220368"/>
                  <a:lnTo>
                    <a:pt x="10143" y="241"/>
                  </a:lnTo>
                  <a:arcTo wR="8829" hR="21600" stAng="-5611301" swAng="-5188699"/>
                  <a:close/>
                </a:path>
                <a:path fill="darkenLess" w="21600" h="21600">
                  <a:moveTo>
                    <a:pt x="0" y="21600"/>
                  </a:moveTo>
                  <a:arcTo wR="8829" hR="21600" stAng="10800000" swAng="5400000"/>
                  <a:lnTo>
                    <a:pt x="8829" y="0"/>
                  </a:lnTo>
                  <a:arcTo wR="8829" hR="21600" stAng="-5400000" swAng="211301"/>
                  <a:lnTo>
                    <a:pt x="10143" y="241"/>
                  </a:lnTo>
                  <a:arcTo wR="8829" hR="21600" stAng="-5611301" swAng="-5188699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Cuadro de texto 10"/>
            <p:cNvSpPr/>
            <p:nvPr/>
          </p:nvSpPr>
          <p:spPr>
            <a:xfrm>
              <a:off x="250920" y="1623600"/>
              <a:ext cx="8820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                                                         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C-O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-SH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~S-Co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Elipse 11"/>
            <p:cNvSpPr/>
            <p:nvPr/>
          </p:nvSpPr>
          <p:spPr>
            <a:xfrm rot="19201800">
              <a:off x="1617480" y="16693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ínea 13"/>
            <p:cNvSpPr/>
            <p:nvPr/>
          </p:nvSpPr>
          <p:spPr>
            <a:xfrm>
              <a:off x="3778200" y="2053800"/>
              <a:ext cx="151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Elipse 14"/>
            <p:cNvSpPr/>
            <p:nvPr/>
          </p:nvSpPr>
          <p:spPr>
            <a:xfrm rot="19201800">
              <a:off x="6586200" y="169308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6" name="Text Box 23"/>
          <p:cNvSpPr/>
          <p:nvPr/>
        </p:nvSpPr>
        <p:spPr>
          <a:xfrm>
            <a:off x="447120" y="10270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Activación de los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493560" y="2684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Re-síntesis de 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849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852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853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854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855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Text Box 5"/>
                  <p:cNvSpPr/>
                  <p:nvPr/>
                </p:nvSpPr>
                <p:spPr>
                  <a:xfrm>
                    <a:off x="6739560" y="2289240"/>
                    <a:ext cx="107676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7" name="Text Box 6"/>
                  <p:cNvSpPr/>
                  <p:nvPr/>
                </p:nvSpPr>
                <p:spPr>
                  <a:xfrm>
                    <a:off x="5924520" y="4556160"/>
                    <a:ext cx="1330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8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59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0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custGeom>
                <a:avLst/>
                <a:gdLst/>
                <a:ahLst/>
                <a:rect l="l" t="t" r="r" b="b"/>
                <a:pathLst>
                  <a:path stroke="0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  <a:lnTo>
                      <a:pt x="311944" y="250032"/>
                    </a:lnTo>
                    <a:lnTo>
                      <a:pt x="311944" y="0"/>
                    </a:lnTo>
                    <a:close/>
                  </a:path>
                  <a:path fill="none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</a:path>
                </a:pathLst>
              </a:custGeom>
              <a:noFill/>
              <a:ln w="38160">
                <a:solidFill>
                  <a:srgbClr val="be4b4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34 CuadroTexto"/>
              <p:cNvSpPr/>
              <p:nvPr/>
            </p:nvSpPr>
            <p:spPr>
              <a:xfrm>
                <a:off x="8002800" y="2786040"/>
                <a:ext cx="33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2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3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20"/>
          <p:cNvGrpSpPr/>
          <p:nvPr/>
        </p:nvGrpSpPr>
        <p:grpSpPr>
          <a:xfrm>
            <a:off x="1450440" y="809640"/>
            <a:ext cx="2469240" cy="654120"/>
            <a:chOff x="1450440" y="809640"/>
            <a:chExt cx="2469240" cy="654120"/>
          </a:xfrm>
        </p:grpSpPr>
        <p:sp>
          <p:nvSpPr>
            <p:cNvPr id="865" name="Text Box 11"/>
            <p:cNvSpPr/>
            <p:nvPr/>
          </p:nvSpPr>
          <p:spPr>
            <a:xfrm>
              <a:off x="1450440" y="10648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Text Box 13"/>
            <p:cNvSpPr/>
            <p:nvPr/>
          </p:nvSpPr>
          <p:spPr>
            <a:xfrm>
              <a:off x="2754360" y="8096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Group 21"/>
          <p:cNvGrpSpPr/>
          <p:nvPr/>
        </p:nvGrpSpPr>
        <p:grpSpPr>
          <a:xfrm>
            <a:off x="1259640" y="2465280"/>
            <a:ext cx="2875680" cy="842040"/>
            <a:chOff x="1259640" y="2465280"/>
            <a:chExt cx="2875680" cy="842040"/>
          </a:xfrm>
        </p:grpSpPr>
        <p:sp>
          <p:nvSpPr>
            <p:cNvPr id="869" name="Text Box 14"/>
            <p:cNvSpPr/>
            <p:nvPr/>
          </p:nvSpPr>
          <p:spPr>
            <a:xfrm>
              <a:off x="1259640" y="27032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Text Box 16"/>
            <p:cNvSpPr/>
            <p:nvPr/>
          </p:nvSpPr>
          <p:spPr>
            <a:xfrm>
              <a:off x="2973960" y="24652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Text Box 17"/>
            <p:cNvSpPr/>
            <p:nvPr/>
          </p:nvSpPr>
          <p:spPr>
            <a:xfrm>
              <a:off x="2661840" y="297000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18"/>
            <p:cNvSpPr/>
            <p:nvPr/>
          </p:nvSpPr>
          <p:spPr>
            <a:xfrm>
              <a:off x="3378600" y="29700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Arc 19"/>
            <p:cNvSpPr/>
            <p:nvPr/>
          </p:nvSpPr>
          <p:spPr>
            <a:xfrm>
              <a:off x="2833560" y="2898360"/>
              <a:ext cx="870120" cy="2476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fill="none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</a:path>
                <a:path stroke="0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  <a:lnTo>
                    <a:pt x="18341" y="21600"/>
                  </a:lnTo>
                  <a:lnTo>
                    <a:pt x="0" y="1019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5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Cuadro de texto 10"/>
          <p:cNvSpPr/>
          <p:nvPr/>
        </p:nvSpPr>
        <p:spPr>
          <a:xfrm>
            <a:off x="2214720" y="3429000"/>
            <a:ext cx="1857240" cy="3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cil-Co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880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81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685440" y="157140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         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Cuadro de texto 2"/>
          <p:cNvSpPr/>
          <p:nvPr/>
        </p:nvSpPr>
        <p:spPr>
          <a:xfrm>
            <a:off x="755640" y="476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estino de los lípidos absorbidos en el intes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Elipse 5"/>
          <p:cNvSpPr/>
          <p:nvPr/>
        </p:nvSpPr>
        <p:spPr>
          <a:xfrm>
            <a:off x="5262480" y="457848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Elipse 6"/>
          <p:cNvSpPr/>
          <p:nvPr/>
        </p:nvSpPr>
        <p:spPr>
          <a:xfrm>
            <a:off x="2023920" y="227016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Línea 4"/>
          <p:cNvSpPr/>
          <p:nvPr/>
        </p:nvSpPr>
        <p:spPr>
          <a:xfrm>
            <a:off x="3422520" y="200664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Línea 5"/>
          <p:cNvSpPr/>
          <p:nvPr/>
        </p:nvSpPr>
        <p:spPr>
          <a:xfrm>
            <a:off x="4284720" y="32306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Línea 6"/>
          <p:cNvSpPr/>
          <p:nvPr/>
        </p:nvSpPr>
        <p:spPr>
          <a:xfrm>
            <a:off x="2023920" y="416736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Línea 4"/>
          <p:cNvSpPr/>
          <p:nvPr/>
        </p:nvSpPr>
        <p:spPr>
          <a:xfrm>
            <a:off x="5435640" y="533556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Línea 7"/>
          <p:cNvSpPr/>
          <p:nvPr/>
        </p:nvSpPr>
        <p:spPr>
          <a:xfrm>
            <a:off x="3247920" y="533556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Cuadro de texto 11"/>
          <p:cNvSpPr/>
          <p:nvPr/>
        </p:nvSpPr>
        <p:spPr>
          <a:xfrm>
            <a:off x="6012000" y="3027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Cuadro de texto 13"/>
          <p:cNvSpPr/>
          <p:nvPr/>
        </p:nvSpPr>
        <p:spPr>
          <a:xfrm>
            <a:off x="6659640" y="5100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8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8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8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6"/>
          <p:cNvSpPr/>
          <p:nvPr/>
        </p:nvSpPr>
        <p:spPr>
          <a:xfrm>
            <a:off x="172080" y="19512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Transporte de TG y otros lípidos hacia la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Group 8"/>
          <p:cNvGrpSpPr/>
          <p:nvPr/>
        </p:nvGrpSpPr>
        <p:grpSpPr>
          <a:xfrm>
            <a:off x="1663560" y="907920"/>
            <a:ext cx="5788080" cy="5905800"/>
            <a:chOff x="1663560" y="907920"/>
            <a:chExt cx="5788080" cy="5905800"/>
          </a:xfrm>
        </p:grpSpPr>
        <p:pic>
          <p:nvPicPr>
            <p:cNvPr id="895" name="Picture 5" descr="figure_20_20_labeled"/>
            <p:cNvPicPr/>
            <p:nvPr/>
          </p:nvPicPr>
          <p:blipFill>
            <a:blip r:embed="rId1"/>
            <a:stretch/>
          </p:blipFill>
          <p:spPr>
            <a:xfrm>
              <a:off x="1663560" y="907920"/>
              <a:ext cx="5788080" cy="59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Rectangle 7"/>
            <p:cNvSpPr/>
            <p:nvPr/>
          </p:nvSpPr>
          <p:spPr>
            <a:xfrm>
              <a:off x="5003640" y="5013360"/>
              <a:ext cx="648000" cy="360360"/>
            </a:xfrm>
            <a:prstGeom prst="rect">
              <a:avLst/>
            </a:prstGeom>
            <a:solidFill>
              <a:srgbClr val="81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Text Box 9"/>
          <p:cNvSpPr/>
          <p:nvPr/>
        </p:nvSpPr>
        <p:spPr>
          <a:xfrm>
            <a:off x="5219640" y="4005360"/>
            <a:ext cx="1513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  <a:ea typeface="Arial"/>
              </a:rPr>
              <a:t>Quilomicr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  <p:sp>
        <p:nvSpPr>
          <p:cNvPr id="899" name="Rectángulo 1"/>
          <p:cNvSpPr/>
          <p:nvPr/>
        </p:nvSpPr>
        <p:spPr>
          <a:xfrm>
            <a:off x="684360" y="3716280"/>
            <a:ext cx="19429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ángulo 3"/>
          <p:cNvSpPr/>
          <p:nvPr/>
        </p:nvSpPr>
        <p:spPr>
          <a:xfrm>
            <a:off x="836640" y="4653000"/>
            <a:ext cx="19429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ángulo 4"/>
          <p:cNvSpPr/>
          <p:nvPr/>
        </p:nvSpPr>
        <p:spPr>
          <a:xfrm>
            <a:off x="900000" y="5589720"/>
            <a:ext cx="230364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ángulo 5"/>
          <p:cNvSpPr/>
          <p:nvPr/>
        </p:nvSpPr>
        <p:spPr>
          <a:xfrm>
            <a:off x="5435640" y="5950080"/>
            <a:ext cx="2521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ectángulo 6"/>
          <p:cNvSpPr/>
          <p:nvPr/>
        </p:nvSpPr>
        <p:spPr>
          <a:xfrm>
            <a:off x="6804000" y="4646520"/>
            <a:ext cx="172872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ángulo 7"/>
          <p:cNvSpPr/>
          <p:nvPr/>
        </p:nvSpPr>
        <p:spPr>
          <a:xfrm>
            <a:off x="6769080" y="3343320"/>
            <a:ext cx="172728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ectángulo 8"/>
          <p:cNvSpPr/>
          <p:nvPr/>
        </p:nvSpPr>
        <p:spPr>
          <a:xfrm>
            <a:off x="5904000" y="981000"/>
            <a:ext cx="24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ángulo 9"/>
          <p:cNvSpPr/>
          <p:nvPr/>
        </p:nvSpPr>
        <p:spPr>
          <a:xfrm>
            <a:off x="7093080" y="2565360"/>
            <a:ext cx="133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1 CuadroTexto"/>
          <p:cNvSpPr/>
          <p:nvPr/>
        </p:nvSpPr>
        <p:spPr>
          <a:xfrm>
            <a:off x="480960" y="907920"/>
            <a:ext cx="8339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s Quilomicrones NO son las únicas lipoproteínas, NI las células intestinales las únicas que sintetizan lip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Además de los quilomicrones existen otras lipoproteínas que se sintetizan u originan en otros tejid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muy baja densidad (VLDL)                HI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densidad intermedia (IDL)                SANG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baja densidad (LDL)                            SANG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Lipoproteína de alta densidad (HDL)          HIGADO E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8" name="3 Conector recto de flecha"/>
          <p:cNvCxnSpPr/>
          <p:nvPr/>
        </p:nvCxnSpPr>
        <p:spPr>
          <a:xfrm>
            <a:off x="6424200" y="334944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9" name="4 Conector recto de flecha"/>
          <p:cNvCxnSpPr/>
          <p:nvPr/>
        </p:nvCxnSpPr>
        <p:spPr>
          <a:xfrm>
            <a:off x="6424200" y="370980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0" name="5 Conector recto de flecha"/>
          <p:cNvCxnSpPr/>
          <p:nvPr/>
        </p:nvCxnSpPr>
        <p:spPr>
          <a:xfrm>
            <a:off x="6424200" y="406836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11" name="6 Conector recto de flecha"/>
          <p:cNvCxnSpPr/>
          <p:nvPr/>
        </p:nvCxnSpPr>
        <p:spPr>
          <a:xfrm>
            <a:off x="5416200" y="4428720"/>
            <a:ext cx="577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642960" y="479520"/>
            <a:ext cx="81770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Cuadro de texto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 Rounded MT Bold"/>
                <a:ea typeface="Arial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Grupo 11"/>
          <p:cNvGrpSpPr/>
          <p:nvPr/>
        </p:nvGrpSpPr>
        <p:grpSpPr>
          <a:xfrm>
            <a:off x="1231920" y="1198440"/>
            <a:ext cx="6913440" cy="5567400"/>
            <a:chOff x="1231920" y="1198440"/>
            <a:chExt cx="6913440" cy="5567400"/>
          </a:xfrm>
        </p:grpSpPr>
        <p:pic>
          <p:nvPicPr>
            <p:cNvPr id="915" name="Imagen 4" descr=""/>
            <p:cNvPicPr/>
            <p:nvPr/>
          </p:nvPicPr>
          <p:blipFill>
            <a:blip r:embed="rId1"/>
            <a:stretch/>
          </p:blipFill>
          <p:spPr>
            <a:xfrm>
              <a:off x="1305000" y="126828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Cuadro de texto 7"/>
            <p:cNvSpPr/>
            <p:nvPr/>
          </p:nvSpPr>
          <p:spPr>
            <a:xfrm>
              <a:off x="1231920" y="1822320"/>
              <a:ext cx="158436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teí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Cuadro de texto 8"/>
            <p:cNvSpPr/>
            <p:nvPr/>
          </p:nvSpPr>
          <p:spPr>
            <a:xfrm>
              <a:off x="2960640" y="1198440"/>
              <a:ext cx="180036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íp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Cuadro de texto 9"/>
            <p:cNvSpPr/>
            <p:nvPr/>
          </p:nvSpPr>
          <p:spPr>
            <a:xfrm>
              <a:off x="5265720" y="1271160"/>
              <a:ext cx="158436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 lib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Cuadro de texto 10"/>
            <p:cNvSpPr/>
            <p:nvPr/>
          </p:nvSpPr>
          <p:spPr>
            <a:xfrm>
              <a:off x="3490920" y="4030560"/>
              <a:ext cx="2952720" cy="126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es de Colesterol  Triacilglicér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2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923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924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5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4 CuadroTexto"/>
          <p:cNvSpPr/>
          <p:nvPr/>
        </p:nvSpPr>
        <p:spPr>
          <a:xfrm>
            <a:off x="954000" y="22068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5 Abrir llave"/>
          <p:cNvSpPr/>
          <p:nvPr/>
        </p:nvSpPr>
        <p:spPr>
          <a:xfrm>
            <a:off x="2698920" y="1905120"/>
            <a:ext cx="288720" cy="10303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1030320"/>
              <a:gd name="textAreaBottom" fmla="*/ 1023120 h 103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3"/>
                  <a:pt x="10800" y="505"/>
                </a:cubicBezTo>
                <a:lnTo>
                  <a:pt x="10800" y="10295"/>
                </a:lnTo>
                <a:cubicBezTo>
                  <a:pt x="10800" y="10548"/>
                  <a:pt x="5400" y="10800"/>
                  <a:pt x="0" y="10800"/>
                </a:cubicBezTo>
                <a:cubicBezTo>
                  <a:pt x="5400" y="10800"/>
                  <a:pt x="10800" y="11053"/>
                  <a:pt x="10800" y="11305"/>
                </a:cubicBezTo>
                <a:lnTo>
                  <a:pt x="10800" y="21095"/>
                </a:lnTo>
                <a:cubicBezTo>
                  <a:pt x="10800" y="2134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6 CuadroTexto"/>
          <p:cNvSpPr/>
          <p:nvPr/>
        </p:nvSpPr>
        <p:spPr>
          <a:xfrm>
            <a:off x="2820960" y="191916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Simple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: ácidos grasos libres, </a:t>
            </a:r>
            <a:r>
              <a:rPr b="1" lang="en-US" sz="2000" spc="-1" strike="noStrike">
                <a:solidFill>
                  <a:srgbClr val="0099ff"/>
                </a:solidFill>
                <a:latin typeface="Calibri"/>
                <a:ea typeface="Arial"/>
              </a:rPr>
              <a:t>acilglicéridos (grasas o aceites) 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y cer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Compuest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: fosfolípidos, gl</a:t>
            </a:r>
            <a:r>
              <a:rPr b="1" lang="en-US" sz="2000" spc="-1" strike="noStrike">
                <a:solidFill>
                  <a:srgbClr val="0099ff"/>
                </a:solidFill>
                <a:latin typeface="Calibri"/>
                <a:ea typeface="Arial"/>
              </a:rPr>
              <a:t>u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colípidos y lipo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1 CuadroTexto"/>
          <p:cNvSpPr/>
          <p:nvPr/>
        </p:nvSpPr>
        <p:spPr>
          <a:xfrm>
            <a:off x="954000" y="443556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No 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2 Abrir llave"/>
          <p:cNvSpPr/>
          <p:nvPr/>
        </p:nvSpPr>
        <p:spPr>
          <a:xfrm>
            <a:off x="3059280" y="3736800"/>
            <a:ext cx="215640" cy="177984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 h 1779840"/>
              <a:gd name="textAreaBottom" fmla="*/ 1775160 h 177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3 CuadroTexto"/>
          <p:cNvSpPr/>
          <p:nvPr/>
        </p:nvSpPr>
        <p:spPr>
          <a:xfrm>
            <a:off x="3274920" y="375912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Vitaminas liposolubles (A, D, E, K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  <a:ea typeface="Arial"/>
              </a:rPr>
              <a:t>- Esteroles: colesterol, ácidos biliares, hormonas esteroideas como los estrógenos, la progesterona, la testoster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1 Título"/>
          <p:cNvSpPr/>
          <p:nvPr/>
        </p:nvSpPr>
        <p:spPr>
          <a:xfrm>
            <a:off x="528480" y="11253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Clasificación de los lípid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357120" y="428760"/>
          <a:ext cx="8643960" cy="607212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48456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angre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935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936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8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9" name="8 CuadroTexto"/>
          <p:cNvSpPr/>
          <p:nvPr/>
        </p:nvSpPr>
        <p:spPr>
          <a:xfrm>
            <a:off x="285840" y="57862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9 CuadroTexto"/>
          <p:cNvSpPr/>
          <p:nvPr/>
        </p:nvSpPr>
        <p:spPr>
          <a:xfrm>
            <a:off x="2428920" y="5916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CII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10 CuadroTexto"/>
          <p:cNvSpPr/>
          <p:nvPr/>
        </p:nvSpPr>
        <p:spPr>
          <a:xfrm>
            <a:off x="4078080" y="58546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11 CuadroTexto"/>
          <p:cNvSpPr/>
          <p:nvPr/>
        </p:nvSpPr>
        <p:spPr>
          <a:xfrm>
            <a:off x="542916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12 CuadroTexto"/>
          <p:cNvSpPr/>
          <p:nvPr/>
        </p:nvSpPr>
        <p:spPr>
          <a:xfrm>
            <a:off x="6929280" y="5786280"/>
            <a:ext cx="192888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AI-IV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6 Grupo"/>
          <p:cNvGrpSpPr/>
          <p:nvPr/>
        </p:nvGrpSpPr>
        <p:grpSpPr>
          <a:xfrm>
            <a:off x="76320" y="571680"/>
            <a:ext cx="9067680" cy="5464080"/>
            <a:chOff x="76320" y="571680"/>
            <a:chExt cx="9067680" cy="5464080"/>
          </a:xfrm>
        </p:grpSpPr>
        <p:grpSp>
          <p:nvGrpSpPr>
            <p:cNvPr id="949" name="4 Grupo"/>
            <p:cNvGrpSpPr/>
            <p:nvPr/>
          </p:nvGrpSpPr>
          <p:grpSpPr>
            <a:xfrm>
              <a:off x="76320" y="571680"/>
              <a:ext cx="8925120" cy="5464080"/>
              <a:chOff x="76320" y="571680"/>
              <a:chExt cx="8925120" cy="5464080"/>
            </a:xfrm>
          </p:grpSpPr>
          <p:pic>
            <p:nvPicPr>
              <p:cNvPr id="950" name="Imagen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571680"/>
                <a:ext cx="8925120" cy="546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1" name="2 CuadroTexto"/>
              <p:cNvSpPr/>
              <p:nvPr/>
            </p:nvSpPr>
            <p:spPr>
              <a:xfrm>
                <a:off x="300960" y="714240"/>
                <a:ext cx="2375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polipoproteína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3 CuadroTexto"/>
              <p:cNvSpPr/>
              <p:nvPr/>
            </p:nvSpPr>
            <p:spPr>
              <a:xfrm>
                <a:off x="4473000" y="714240"/>
                <a:ext cx="27471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Funció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3" name="5 CuadroTexto"/>
            <p:cNvSpPr/>
            <p:nvPr/>
          </p:nvSpPr>
          <p:spPr>
            <a:xfrm>
              <a:off x="3643200" y="4641480"/>
              <a:ext cx="55008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poprotein Lipasa del endotelio capilar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"/>
          <p:cNvPicPr/>
          <p:nvPr/>
        </p:nvPicPr>
        <p:blipFill>
          <a:blip r:embed="rId1"/>
          <a:stretch/>
        </p:blipFill>
        <p:spPr>
          <a:xfrm>
            <a:off x="0" y="-15840"/>
            <a:ext cx="9193320" cy="6894360"/>
          </a:xfrm>
          <a:prstGeom prst="rect">
            <a:avLst/>
          </a:prstGeom>
          <a:ln w="0">
            <a:noFill/>
          </a:ln>
        </p:spPr>
      </p:pic>
      <p:sp>
        <p:nvSpPr>
          <p:cNvPr id="955" name="Rectángulo 7"/>
          <p:cNvSpPr/>
          <p:nvPr/>
        </p:nvSpPr>
        <p:spPr>
          <a:xfrm>
            <a:off x="6769080" y="3343320"/>
            <a:ext cx="172728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Rectángulo 8"/>
          <p:cNvSpPr/>
          <p:nvPr/>
        </p:nvSpPr>
        <p:spPr>
          <a:xfrm>
            <a:off x="7093080" y="2349360"/>
            <a:ext cx="12952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Rectángulo 9"/>
          <p:cNvSpPr/>
          <p:nvPr/>
        </p:nvSpPr>
        <p:spPr>
          <a:xfrm>
            <a:off x="6012000" y="981000"/>
            <a:ext cx="2447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9" name="4 Grupo"/>
          <p:cNvGrpSpPr/>
          <p:nvPr/>
        </p:nvGrpSpPr>
        <p:grpSpPr>
          <a:xfrm>
            <a:off x="108000" y="1143000"/>
            <a:ext cx="7643880" cy="5286240"/>
            <a:chOff x="108000" y="1143000"/>
            <a:chExt cx="7643880" cy="5286240"/>
          </a:xfrm>
        </p:grpSpPr>
        <p:pic>
          <p:nvPicPr>
            <p:cNvPr id="960" name="Picture 2" descr=""/>
            <p:cNvPicPr/>
            <p:nvPr/>
          </p:nvPicPr>
          <p:blipFill>
            <a:blip r:embed="rId1"/>
            <a:srcRect l="4165" t="8892" r="6630" b="8840"/>
            <a:stretch/>
          </p:blipFill>
          <p:spPr>
            <a:xfrm>
              <a:off x="108000" y="1143000"/>
              <a:ext cx="764388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3 Cerrar corchete"/>
            <p:cNvSpPr/>
            <p:nvPr/>
          </p:nvSpPr>
          <p:spPr>
            <a:xfrm rot="5604000">
              <a:off x="3076560" y="3553920"/>
              <a:ext cx="485640" cy="3384720"/>
            </a:xfrm>
            <a:custGeom>
              <a:avLst/>
              <a:gdLst>
                <a:gd name="textAreaLeft" fmla="*/ 0 w 485640"/>
                <a:gd name="textAreaRight" fmla="*/ 340560 w 485640"/>
                <a:gd name="textAreaTop" fmla="*/ 336960 h 3384720"/>
                <a:gd name="textAreaBottom" fmla="*/ 3047760 h 33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51"/>
                    <a:pt x="21600" y="4301"/>
                  </a:cubicBezTo>
                  <a:lnTo>
                    <a:pt x="21600" y="17299"/>
                  </a:lnTo>
                  <a:cubicBezTo>
                    <a:pt x="21600" y="1945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5 CuadroTexto"/>
            <p:cNvSpPr/>
            <p:nvPr/>
          </p:nvSpPr>
          <p:spPr>
            <a:xfrm>
              <a:off x="6012000" y="2876400"/>
              <a:ext cx="108108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pilares de los tejidos extr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epático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8 CuadroTexto"/>
            <p:cNvSpPr/>
            <p:nvPr/>
          </p:nvSpPr>
          <p:spPr>
            <a:xfrm>
              <a:off x="5292720" y="3892320"/>
              <a:ext cx="1592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IPOPROTEINA LIPA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8 CuadroTexto"/>
            <p:cNvSpPr/>
            <p:nvPr/>
          </p:nvSpPr>
          <p:spPr>
            <a:xfrm>
              <a:off x="524880" y="2348640"/>
              <a:ext cx="795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TESTIN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LGAD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8 CuadroTexto"/>
            <p:cNvSpPr/>
            <p:nvPr/>
          </p:nvSpPr>
          <p:spPr>
            <a:xfrm>
              <a:off x="1111320" y="1227960"/>
              <a:ext cx="93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G de la die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8 CuadroTexto"/>
            <p:cNvSpPr/>
            <p:nvPr/>
          </p:nvSpPr>
          <p:spPr>
            <a:xfrm>
              <a:off x="2767680" y="1763280"/>
              <a:ext cx="939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aci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8 CuadroTexto"/>
            <p:cNvSpPr/>
            <p:nvPr/>
          </p:nvSpPr>
          <p:spPr>
            <a:xfrm>
              <a:off x="4856040" y="2596320"/>
              <a:ext cx="93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8 CuadroTexto"/>
            <p:cNvSpPr/>
            <p:nvPr/>
          </p:nvSpPr>
          <p:spPr>
            <a:xfrm>
              <a:off x="3564000" y="3861000"/>
              <a:ext cx="360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HD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8 CuadroTexto"/>
            <p:cNvSpPr/>
            <p:nvPr/>
          </p:nvSpPr>
          <p:spPr>
            <a:xfrm>
              <a:off x="6588360" y="4612320"/>
              <a:ext cx="936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8 CuadroTexto"/>
            <p:cNvSpPr/>
            <p:nvPr/>
          </p:nvSpPr>
          <p:spPr>
            <a:xfrm>
              <a:off x="4716000" y="4941000"/>
              <a:ext cx="720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Glicero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8 CuadroTexto"/>
            <p:cNvSpPr/>
            <p:nvPr/>
          </p:nvSpPr>
          <p:spPr>
            <a:xfrm>
              <a:off x="3776040" y="4941000"/>
              <a:ext cx="939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QM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remanent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8 CuadroTexto"/>
            <p:cNvSpPr/>
            <p:nvPr/>
          </p:nvSpPr>
          <p:spPr>
            <a:xfrm>
              <a:off x="1327680" y="4725000"/>
              <a:ext cx="651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IGAD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3" name="6 Grupo"/>
          <p:cNvGrpSpPr/>
          <p:nvPr/>
        </p:nvGrpSpPr>
        <p:grpSpPr>
          <a:xfrm>
            <a:off x="6948360" y="2781360"/>
            <a:ext cx="1958760" cy="1310760"/>
            <a:chOff x="6948360" y="2781360"/>
            <a:chExt cx="1958760" cy="1310760"/>
          </a:xfrm>
        </p:grpSpPr>
        <p:sp>
          <p:nvSpPr>
            <p:cNvPr id="974" name="4 CuadroTexto"/>
            <p:cNvSpPr/>
            <p:nvPr/>
          </p:nvSpPr>
          <p:spPr>
            <a:xfrm>
              <a:off x="7101720" y="2781360"/>
              <a:ext cx="180540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Tej. Adipo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Miocardi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Musc. Esquelét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- Gl. Mamaria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actan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1 Abrir llave"/>
            <p:cNvSpPr/>
            <p:nvPr/>
          </p:nvSpPr>
          <p:spPr>
            <a:xfrm>
              <a:off x="6948360" y="2781360"/>
              <a:ext cx="215640" cy="1295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5400 h 1295640"/>
                <a:gd name="textAreaBottom" fmla="*/ 129024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5400" y="10800"/>
                    <a:pt x="0" y="10800"/>
                  </a:cubicBezTo>
                  <a:cubicBezTo>
                    <a:pt x="54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ACCION DE LA 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  <a:ea typeface="Arial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35 CuadroTexto"/>
          <p:cNvSpPr/>
          <p:nvPr/>
        </p:nvSpPr>
        <p:spPr>
          <a:xfrm>
            <a:off x="4314600" y="271476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Elipse 11"/>
          <p:cNvSpPr/>
          <p:nvPr/>
        </p:nvSpPr>
        <p:spPr>
          <a:xfrm>
            <a:off x="3419640" y="4581360"/>
            <a:ext cx="652320" cy="633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g-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Grupo 8"/>
          <p:cNvGrpSpPr/>
          <p:nvPr/>
        </p:nvGrpSpPr>
        <p:grpSpPr>
          <a:xfrm>
            <a:off x="182520" y="2786040"/>
            <a:ext cx="2532240" cy="1513080"/>
            <a:chOff x="182520" y="2786040"/>
            <a:chExt cx="2532240" cy="1513080"/>
          </a:xfrm>
        </p:grpSpPr>
        <p:sp>
          <p:nvSpPr>
            <p:cNvPr id="987" name="Forma libre 5"/>
            <p:cNvSpPr/>
            <p:nvPr/>
          </p:nvSpPr>
          <p:spPr>
            <a:xfrm>
              <a:off x="182520" y="2786040"/>
              <a:ext cx="2532240" cy="15130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731" h="1203">
                  <a:moveTo>
                    <a:pt x="31" y="738"/>
                  </a:moveTo>
                  <a:lnTo>
                    <a:pt x="36" y="712"/>
                  </a:lnTo>
                  <a:lnTo>
                    <a:pt x="42" y="683"/>
                  </a:lnTo>
                  <a:lnTo>
                    <a:pt x="48" y="651"/>
                  </a:lnTo>
                  <a:lnTo>
                    <a:pt x="54" y="619"/>
                  </a:lnTo>
                  <a:lnTo>
                    <a:pt x="64" y="549"/>
                  </a:lnTo>
                  <a:lnTo>
                    <a:pt x="76" y="476"/>
                  </a:lnTo>
                  <a:lnTo>
                    <a:pt x="90" y="404"/>
                  </a:lnTo>
                  <a:lnTo>
                    <a:pt x="112" y="334"/>
                  </a:lnTo>
                  <a:lnTo>
                    <a:pt x="123" y="303"/>
                  </a:lnTo>
                  <a:lnTo>
                    <a:pt x="140" y="272"/>
                  </a:lnTo>
                  <a:lnTo>
                    <a:pt x="157" y="245"/>
                  </a:lnTo>
                  <a:lnTo>
                    <a:pt x="177" y="221"/>
                  </a:lnTo>
                  <a:lnTo>
                    <a:pt x="199" y="199"/>
                  </a:lnTo>
                  <a:lnTo>
                    <a:pt x="227" y="177"/>
                  </a:lnTo>
                  <a:lnTo>
                    <a:pt x="286" y="137"/>
                  </a:lnTo>
                  <a:lnTo>
                    <a:pt x="350" y="100"/>
                  </a:lnTo>
                  <a:lnTo>
                    <a:pt x="424" y="70"/>
                  </a:lnTo>
                  <a:lnTo>
                    <a:pt x="499" y="42"/>
                  </a:lnTo>
                  <a:lnTo>
                    <a:pt x="571" y="22"/>
                  </a:lnTo>
                  <a:lnTo>
                    <a:pt x="645" y="8"/>
                  </a:lnTo>
                  <a:lnTo>
                    <a:pt x="712" y="0"/>
                  </a:lnTo>
                  <a:lnTo>
                    <a:pt x="746" y="0"/>
                  </a:lnTo>
                  <a:lnTo>
                    <a:pt x="779" y="2"/>
                  </a:lnTo>
                  <a:lnTo>
                    <a:pt x="813" y="8"/>
                  </a:lnTo>
                  <a:lnTo>
                    <a:pt x="846" y="18"/>
                  </a:lnTo>
                  <a:lnTo>
                    <a:pt x="880" y="28"/>
                  </a:lnTo>
                  <a:lnTo>
                    <a:pt x="913" y="40"/>
                  </a:lnTo>
                  <a:lnTo>
                    <a:pt x="978" y="66"/>
                  </a:lnTo>
                  <a:lnTo>
                    <a:pt x="1043" y="95"/>
                  </a:lnTo>
                  <a:lnTo>
                    <a:pt x="1104" y="123"/>
                  </a:lnTo>
                  <a:lnTo>
                    <a:pt x="1160" y="148"/>
                  </a:lnTo>
                  <a:lnTo>
                    <a:pt x="1186" y="157"/>
                  </a:lnTo>
                  <a:lnTo>
                    <a:pt x="1211" y="166"/>
                  </a:lnTo>
                  <a:lnTo>
                    <a:pt x="1253" y="177"/>
                  </a:lnTo>
                  <a:lnTo>
                    <a:pt x="1292" y="187"/>
                  </a:lnTo>
                  <a:lnTo>
                    <a:pt x="1323" y="195"/>
                  </a:lnTo>
                  <a:lnTo>
                    <a:pt x="1353" y="203"/>
                  </a:lnTo>
                  <a:lnTo>
                    <a:pt x="1381" y="207"/>
                  </a:lnTo>
                  <a:lnTo>
                    <a:pt x="1407" y="207"/>
                  </a:lnTo>
                  <a:lnTo>
                    <a:pt x="1435" y="207"/>
                  </a:lnTo>
                  <a:lnTo>
                    <a:pt x="1466" y="203"/>
                  </a:lnTo>
                  <a:lnTo>
                    <a:pt x="1482" y="199"/>
                  </a:lnTo>
                  <a:lnTo>
                    <a:pt x="1499" y="193"/>
                  </a:lnTo>
                  <a:lnTo>
                    <a:pt x="1519" y="184"/>
                  </a:lnTo>
                  <a:lnTo>
                    <a:pt x="1536" y="173"/>
                  </a:lnTo>
                  <a:lnTo>
                    <a:pt x="1569" y="158"/>
                  </a:lnTo>
                  <a:lnTo>
                    <a:pt x="1707" y="176"/>
                  </a:lnTo>
                  <a:lnTo>
                    <a:pt x="1713" y="200"/>
                  </a:lnTo>
                  <a:lnTo>
                    <a:pt x="1713" y="212"/>
                  </a:lnTo>
                  <a:lnTo>
                    <a:pt x="1719" y="224"/>
                  </a:lnTo>
                  <a:lnTo>
                    <a:pt x="1697" y="198"/>
                  </a:lnTo>
                  <a:lnTo>
                    <a:pt x="1701" y="200"/>
                  </a:lnTo>
                  <a:lnTo>
                    <a:pt x="1731" y="212"/>
                  </a:lnTo>
                  <a:lnTo>
                    <a:pt x="1725" y="176"/>
                  </a:lnTo>
                  <a:lnTo>
                    <a:pt x="1719" y="182"/>
                  </a:lnTo>
                  <a:lnTo>
                    <a:pt x="1719" y="200"/>
                  </a:lnTo>
                  <a:lnTo>
                    <a:pt x="1689" y="176"/>
                  </a:lnTo>
                  <a:lnTo>
                    <a:pt x="1723" y="177"/>
                  </a:lnTo>
                  <a:lnTo>
                    <a:pt x="1721" y="209"/>
                  </a:lnTo>
                  <a:lnTo>
                    <a:pt x="1718" y="241"/>
                  </a:lnTo>
                  <a:lnTo>
                    <a:pt x="1707" y="312"/>
                  </a:lnTo>
                  <a:lnTo>
                    <a:pt x="1693" y="386"/>
                  </a:lnTo>
                  <a:lnTo>
                    <a:pt x="1684" y="422"/>
                  </a:lnTo>
                  <a:lnTo>
                    <a:pt x="1673" y="456"/>
                  </a:lnTo>
                  <a:lnTo>
                    <a:pt x="1665" y="488"/>
                  </a:lnTo>
                  <a:lnTo>
                    <a:pt x="1653" y="516"/>
                  </a:lnTo>
                  <a:lnTo>
                    <a:pt x="1639" y="541"/>
                  </a:lnTo>
                  <a:lnTo>
                    <a:pt x="1628" y="563"/>
                  </a:lnTo>
                  <a:lnTo>
                    <a:pt x="1614" y="581"/>
                  </a:lnTo>
                  <a:lnTo>
                    <a:pt x="1598" y="597"/>
                  </a:lnTo>
                  <a:lnTo>
                    <a:pt x="1561" y="625"/>
                  </a:lnTo>
                  <a:lnTo>
                    <a:pt x="1516" y="644"/>
                  </a:lnTo>
                  <a:lnTo>
                    <a:pt x="1471" y="661"/>
                  </a:lnTo>
                  <a:lnTo>
                    <a:pt x="1424" y="672"/>
                  </a:lnTo>
                  <a:lnTo>
                    <a:pt x="1379" y="683"/>
                  </a:lnTo>
                  <a:lnTo>
                    <a:pt x="1343" y="690"/>
                  </a:lnTo>
                  <a:lnTo>
                    <a:pt x="1311" y="701"/>
                  </a:lnTo>
                  <a:lnTo>
                    <a:pt x="1300" y="704"/>
                  </a:lnTo>
                  <a:lnTo>
                    <a:pt x="1292" y="706"/>
                  </a:lnTo>
                  <a:lnTo>
                    <a:pt x="1283" y="708"/>
                  </a:lnTo>
                  <a:lnTo>
                    <a:pt x="1281" y="708"/>
                  </a:lnTo>
                  <a:lnTo>
                    <a:pt x="1278" y="704"/>
                  </a:lnTo>
                  <a:lnTo>
                    <a:pt x="1272" y="704"/>
                  </a:lnTo>
                  <a:lnTo>
                    <a:pt x="1258" y="708"/>
                  </a:lnTo>
                  <a:lnTo>
                    <a:pt x="1250" y="715"/>
                  </a:lnTo>
                  <a:lnTo>
                    <a:pt x="1236" y="720"/>
                  </a:lnTo>
                  <a:lnTo>
                    <a:pt x="1219" y="728"/>
                  </a:lnTo>
                  <a:lnTo>
                    <a:pt x="1202" y="738"/>
                  </a:lnTo>
                  <a:lnTo>
                    <a:pt x="1158" y="764"/>
                  </a:lnTo>
                  <a:lnTo>
                    <a:pt x="1107" y="796"/>
                  </a:lnTo>
                  <a:lnTo>
                    <a:pt x="1051" y="828"/>
                  </a:lnTo>
                  <a:lnTo>
                    <a:pt x="995" y="861"/>
                  </a:lnTo>
                  <a:lnTo>
                    <a:pt x="939" y="892"/>
                  </a:lnTo>
                  <a:lnTo>
                    <a:pt x="886" y="915"/>
                  </a:lnTo>
                  <a:lnTo>
                    <a:pt x="863" y="925"/>
                  </a:lnTo>
                  <a:lnTo>
                    <a:pt x="841" y="933"/>
                  </a:lnTo>
                  <a:lnTo>
                    <a:pt x="821" y="939"/>
                  </a:lnTo>
                  <a:lnTo>
                    <a:pt x="802" y="941"/>
                  </a:lnTo>
                  <a:lnTo>
                    <a:pt x="765" y="945"/>
                  </a:lnTo>
                  <a:lnTo>
                    <a:pt x="732" y="941"/>
                  </a:lnTo>
                  <a:lnTo>
                    <a:pt x="698" y="937"/>
                  </a:lnTo>
                  <a:lnTo>
                    <a:pt x="667" y="931"/>
                  </a:lnTo>
                  <a:lnTo>
                    <a:pt x="637" y="925"/>
                  </a:lnTo>
                  <a:lnTo>
                    <a:pt x="603" y="923"/>
                  </a:lnTo>
                  <a:lnTo>
                    <a:pt x="569" y="925"/>
                  </a:lnTo>
                  <a:lnTo>
                    <a:pt x="530" y="931"/>
                  </a:lnTo>
                  <a:lnTo>
                    <a:pt x="488" y="939"/>
                  </a:lnTo>
                  <a:lnTo>
                    <a:pt x="404" y="961"/>
                  </a:lnTo>
                  <a:lnTo>
                    <a:pt x="362" y="973"/>
                  </a:lnTo>
                  <a:lnTo>
                    <a:pt x="322" y="985"/>
                  </a:lnTo>
                  <a:lnTo>
                    <a:pt x="289" y="998"/>
                  </a:lnTo>
                  <a:lnTo>
                    <a:pt x="261" y="1012"/>
                  </a:lnTo>
                  <a:lnTo>
                    <a:pt x="239" y="1029"/>
                  </a:lnTo>
                  <a:lnTo>
                    <a:pt x="221" y="1048"/>
                  </a:lnTo>
                  <a:lnTo>
                    <a:pt x="210" y="1069"/>
                  </a:lnTo>
                  <a:lnTo>
                    <a:pt x="202" y="1088"/>
                  </a:lnTo>
                  <a:lnTo>
                    <a:pt x="193" y="1108"/>
                  </a:lnTo>
                  <a:lnTo>
                    <a:pt x="185" y="1126"/>
                  </a:lnTo>
                  <a:lnTo>
                    <a:pt x="179" y="1142"/>
                  </a:lnTo>
                  <a:lnTo>
                    <a:pt x="168" y="1156"/>
                  </a:lnTo>
                  <a:lnTo>
                    <a:pt x="157" y="1166"/>
                  </a:lnTo>
                  <a:lnTo>
                    <a:pt x="149" y="1175"/>
                  </a:lnTo>
                  <a:lnTo>
                    <a:pt x="126" y="1188"/>
                  </a:lnTo>
                  <a:lnTo>
                    <a:pt x="107" y="1192"/>
                  </a:lnTo>
                  <a:lnTo>
                    <a:pt x="84" y="1193"/>
                  </a:lnTo>
                  <a:lnTo>
                    <a:pt x="73" y="1196"/>
                  </a:lnTo>
                  <a:lnTo>
                    <a:pt x="62" y="1200"/>
                  </a:lnTo>
                  <a:lnTo>
                    <a:pt x="48" y="1202"/>
                  </a:lnTo>
                  <a:lnTo>
                    <a:pt x="34" y="1203"/>
                  </a:lnTo>
                  <a:lnTo>
                    <a:pt x="22" y="1202"/>
                  </a:lnTo>
                  <a:lnTo>
                    <a:pt x="14" y="1193"/>
                  </a:lnTo>
                  <a:lnTo>
                    <a:pt x="8" y="1188"/>
                  </a:lnTo>
                  <a:lnTo>
                    <a:pt x="6" y="1180"/>
                  </a:lnTo>
                  <a:lnTo>
                    <a:pt x="3" y="1170"/>
                  </a:lnTo>
                  <a:lnTo>
                    <a:pt x="0" y="1156"/>
                  </a:lnTo>
                  <a:lnTo>
                    <a:pt x="0" y="1140"/>
                  </a:lnTo>
                  <a:lnTo>
                    <a:pt x="0" y="1120"/>
                  </a:lnTo>
                  <a:lnTo>
                    <a:pt x="0" y="1096"/>
                  </a:lnTo>
                  <a:lnTo>
                    <a:pt x="0" y="1070"/>
                  </a:lnTo>
                  <a:lnTo>
                    <a:pt x="3" y="1042"/>
                  </a:lnTo>
                  <a:lnTo>
                    <a:pt x="6" y="1012"/>
                  </a:lnTo>
                  <a:lnTo>
                    <a:pt x="11" y="951"/>
                  </a:lnTo>
                  <a:lnTo>
                    <a:pt x="17" y="889"/>
                  </a:lnTo>
                  <a:lnTo>
                    <a:pt x="22" y="830"/>
                  </a:lnTo>
                  <a:lnTo>
                    <a:pt x="26" y="802"/>
                  </a:lnTo>
                  <a:lnTo>
                    <a:pt x="28" y="778"/>
                  </a:lnTo>
                  <a:lnTo>
                    <a:pt x="31" y="756"/>
                  </a:lnTo>
                  <a:lnTo>
                    <a:pt x="31" y="738"/>
                  </a:lnTo>
                </a:path>
              </a:pathLst>
            </a:custGeom>
            <a:solidFill>
              <a:srgbClr val="e6b9b8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Cuadro de texto 6"/>
            <p:cNvSpPr/>
            <p:nvPr/>
          </p:nvSpPr>
          <p:spPr>
            <a:xfrm>
              <a:off x="598320" y="31784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9" name="Elipse 9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Elipse 10"/>
          <p:cNvSpPr/>
          <p:nvPr/>
        </p:nvSpPr>
        <p:spPr>
          <a:xfrm>
            <a:off x="4356000" y="3645000"/>
            <a:ext cx="100800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Elipse 13"/>
          <p:cNvSpPr/>
          <p:nvPr/>
        </p:nvSpPr>
        <p:spPr>
          <a:xfrm>
            <a:off x="5867280" y="270828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orma libre 17"/>
          <p:cNvSpPr/>
          <p:nvPr/>
        </p:nvSpPr>
        <p:spPr>
          <a:xfrm rot="1209000">
            <a:off x="3768480" y="2217240"/>
            <a:ext cx="2087280" cy="43200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Cuadro de texto 18"/>
          <p:cNvSpPr/>
          <p:nvPr/>
        </p:nvSpPr>
        <p:spPr>
          <a:xfrm>
            <a:off x="1690560" y="3571920"/>
            <a:ext cx="109548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   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  <a:ea typeface="Arial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orma libre 16"/>
          <p:cNvSpPr/>
          <p:nvPr/>
        </p:nvSpPr>
        <p:spPr>
          <a:xfrm rot="3243600">
            <a:off x="2308320" y="3914640"/>
            <a:ext cx="1511280" cy="216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Autoforma 19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orma libre 20"/>
          <p:cNvSpPr/>
          <p:nvPr/>
        </p:nvSpPr>
        <p:spPr>
          <a:xfrm rot="19074000">
            <a:off x="1633320" y="2190600"/>
            <a:ext cx="1069920" cy="37800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orma libre 22"/>
          <p:cNvSpPr/>
          <p:nvPr/>
        </p:nvSpPr>
        <p:spPr>
          <a:xfrm rot="16200000">
            <a:off x="4210560" y="2924280"/>
            <a:ext cx="1081080" cy="216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Cuadro de texto 23"/>
          <p:cNvSpPr/>
          <p:nvPr/>
        </p:nvSpPr>
        <p:spPr>
          <a:xfrm>
            <a:off x="3708360" y="2924280"/>
            <a:ext cx="12952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po CII,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9" name="Grupo 51"/>
          <p:cNvGrpSpPr/>
          <p:nvPr/>
        </p:nvGrpSpPr>
        <p:grpSpPr>
          <a:xfrm>
            <a:off x="6644160" y="2643120"/>
            <a:ext cx="2080800" cy="3250800"/>
            <a:chOff x="6644160" y="2643120"/>
            <a:chExt cx="2080800" cy="3250800"/>
          </a:xfrm>
        </p:grpSpPr>
        <p:sp>
          <p:nvSpPr>
            <p:cNvPr id="1000" name="Cuadro de texto 49"/>
            <p:cNvSpPr/>
            <p:nvPr/>
          </p:nvSpPr>
          <p:spPr>
            <a:xfrm rot="19386000">
              <a:off x="6651000" y="3052080"/>
              <a:ext cx="15429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  <a:ea typeface="Arial"/>
                </a:rPr>
                <a:t>Lipoproteí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  <a:ea typeface="Arial"/>
                </a:rPr>
                <a:t>Lipas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1" name="Grupo 45"/>
            <p:cNvGrpSpPr/>
            <p:nvPr/>
          </p:nvGrpSpPr>
          <p:grpSpPr>
            <a:xfrm>
              <a:off x="6997680" y="3595680"/>
              <a:ext cx="1727280" cy="1511280"/>
              <a:chOff x="6997680" y="3595680"/>
              <a:chExt cx="1727280" cy="1511280"/>
            </a:xfrm>
          </p:grpSpPr>
          <p:grpSp>
            <p:nvGrpSpPr>
              <p:cNvPr id="1002" name="Grupo 42"/>
              <p:cNvGrpSpPr/>
              <p:nvPr/>
            </p:nvGrpSpPr>
            <p:grpSpPr>
              <a:xfrm>
                <a:off x="6997680" y="3595680"/>
                <a:ext cx="1727280" cy="1511280"/>
                <a:chOff x="6997680" y="3595680"/>
                <a:chExt cx="1727280" cy="1511280"/>
              </a:xfrm>
            </p:grpSpPr>
            <p:grpSp>
              <p:nvGrpSpPr>
                <p:cNvPr id="1003" name="Grupo 41"/>
                <p:cNvGrpSpPr/>
                <p:nvPr/>
              </p:nvGrpSpPr>
              <p:grpSpPr>
                <a:xfrm>
                  <a:off x="6997680" y="3595680"/>
                  <a:ext cx="1727280" cy="1511280"/>
                  <a:chOff x="6997680" y="3595680"/>
                  <a:chExt cx="1727280" cy="1511280"/>
                </a:xfrm>
              </p:grpSpPr>
              <p:sp>
                <p:nvSpPr>
                  <p:cNvPr id="1004" name="Elipse 27"/>
                  <p:cNvSpPr/>
                  <p:nvPr/>
                </p:nvSpPr>
                <p:spPr>
                  <a:xfrm>
                    <a:off x="7213680" y="37400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5" name="Elipse 29"/>
                  <p:cNvSpPr/>
                  <p:nvPr/>
                </p:nvSpPr>
                <p:spPr>
                  <a:xfrm>
                    <a:off x="7645320" y="4171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6" name="Elipse 31"/>
                  <p:cNvSpPr/>
                  <p:nvPr/>
                </p:nvSpPr>
                <p:spPr>
                  <a:xfrm>
                    <a:off x="7284960" y="4387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7" name="Elipse 32"/>
                  <p:cNvSpPr/>
                  <p:nvPr/>
                </p:nvSpPr>
                <p:spPr>
                  <a:xfrm>
                    <a:off x="6997680" y="41004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Elipse 33"/>
                  <p:cNvSpPr/>
                  <p:nvPr/>
                </p:nvSpPr>
                <p:spPr>
                  <a:xfrm>
                    <a:off x="7932960" y="39560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9" name="Elipse 34"/>
                  <p:cNvSpPr/>
                  <p:nvPr/>
                </p:nvSpPr>
                <p:spPr>
                  <a:xfrm>
                    <a:off x="7645320" y="36669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0" name="Elipse 35"/>
                  <p:cNvSpPr/>
                  <p:nvPr/>
                </p:nvSpPr>
                <p:spPr>
                  <a:xfrm>
                    <a:off x="8077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1" name="Elipse 36"/>
                  <p:cNvSpPr/>
                  <p:nvPr/>
                </p:nvSpPr>
                <p:spPr>
                  <a:xfrm>
                    <a:off x="8005680" y="3595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2" name="Elipse 37"/>
                  <p:cNvSpPr/>
                  <p:nvPr/>
                </p:nvSpPr>
                <p:spPr>
                  <a:xfrm>
                    <a:off x="7645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3" name="Elipse 39"/>
                  <p:cNvSpPr/>
                  <p:nvPr/>
                </p:nvSpPr>
                <p:spPr>
                  <a:xfrm>
                    <a:off x="6997680" y="44593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4" name="Elipse 40"/>
                  <p:cNvSpPr/>
                  <p:nvPr/>
                </p:nvSpPr>
                <p:spPr>
                  <a:xfrm>
                    <a:off x="8221680" y="40273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15" name="Elipse 28"/>
                <p:cNvSpPr/>
                <p:nvPr/>
              </p:nvSpPr>
              <p:spPr>
                <a:xfrm>
                  <a:off x="7429680" y="39560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16" name="Elipse 38"/>
              <p:cNvSpPr/>
              <p:nvPr/>
            </p:nvSpPr>
            <p:spPr>
              <a:xfrm>
                <a:off x="8078760" y="43149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7" name="Cuadro de texto 43"/>
            <p:cNvSpPr/>
            <p:nvPr/>
          </p:nvSpPr>
          <p:spPr>
            <a:xfrm>
              <a:off x="7286760" y="52513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Elipse 46"/>
            <p:cNvSpPr/>
            <p:nvPr/>
          </p:nvSpPr>
          <p:spPr>
            <a:xfrm>
              <a:off x="7862760" y="3882960"/>
              <a:ext cx="648000" cy="503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Elipse 47"/>
            <p:cNvSpPr/>
            <p:nvPr/>
          </p:nvSpPr>
          <p:spPr>
            <a:xfrm>
              <a:off x="6997680" y="4314960"/>
              <a:ext cx="647640" cy="502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Línea 50"/>
            <p:cNvSpPr/>
            <p:nvPr/>
          </p:nvSpPr>
          <p:spPr>
            <a:xfrm>
              <a:off x="6653160" y="3378240"/>
              <a:ext cx="56196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1" name="Línea 48"/>
          <p:cNvSpPr/>
          <p:nvPr/>
        </p:nvSpPr>
        <p:spPr>
          <a:xfrm flipV="1">
            <a:off x="7637400" y="4294080"/>
            <a:ext cx="358920" cy="216000"/>
          </a:xfrm>
          <a:prstGeom prst="line">
            <a:avLst/>
          </a:prstGeom>
          <a:ln w="414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Autoforma 54"/>
          <p:cNvSpPr/>
          <p:nvPr/>
        </p:nvSpPr>
        <p:spPr>
          <a:xfrm rot="10800000">
            <a:off x="4716000" y="5013000"/>
            <a:ext cx="1584360" cy="431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orma libre 59"/>
          <p:cNvSpPr/>
          <p:nvPr/>
        </p:nvSpPr>
        <p:spPr>
          <a:xfrm rot="11475000">
            <a:off x="5292360" y="4508280"/>
            <a:ext cx="1069920" cy="3776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499" h="317">
                <a:moveTo>
                  <a:pt x="499" y="227"/>
                </a:moveTo>
                <a:cubicBezTo>
                  <a:pt x="461" y="151"/>
                  <a:pt x="423" y="75"/>
                  <a:pt x="363" y="45"/>
                </a:cubicBezTo>
                <a:cubicBezTo>
                  <a:pt x="303" y="15"/>
                  <a:pt x="196" y="0"/>
                  <a:pt x="136" y="45"/>
                </a:cubicBezTo>
                <a:cubicBezTo>
                  <a:pt x="76" y="90"/>
                  <a:pt x="23" y="279"/>
                  <a:pt x="0" y="317"/>
                </a:cubicBezTo>
              </a:path>
            </a:pathLst>
          </a:custGeom>
          <a:noFill/>
          <a:ln w="41400">
            <a:solidFill>
              <a:srgbClr val="1f497d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Elipse 60"/>
          <p:cNvSpPr/>
          <p:nvPr/>
        </p:nvSpPr>
        <p:spPr>
          <a:xfrm>
            <a:off x="5508720" y="4365720"/>
            <a:ext cx="64908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Apo C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Elipse 61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Elipse 62"/>
          <p:cNvSpPr/>
          <p:nvPr/>
        </p:nvSpPr>
        <p:spPr>
          <a:xfrm>
            <a:off x="5867280" y="220500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Elipse 63"/>
          <p:cNvSpPr/>
          <p:nvPr/>
        </p:nvSpPr>
        <p:spPr>
          <a:xfrm>
            <a:off x="6659640" y="2637000"/>
            <a:ext cx="504720" cy="502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Elipse 64"/>
          <p:cNvSpPr/>
          <p:nvPr/>
        </p:nvSpPr>
        <p:spPr>
          <a:xfrm>
            <a:off x="5508720" y="3213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Elipse 65"/>
          <p:cNvSpPr/>
          <p:nvPr/>
        </p:nvSpPr>
        <p:spPr>
          <a:xfrm>
            <a:off x="2987640" y="4869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Elipse 66"/>
          <p:cNvSpPr/>
          <p:nvPr/>
        </p:nvSpPr>
        <p:spPr>
          <a:xfrm>
            <a:off x="3492360" y="40766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Línea 74"/>
          <p:cNvSpPr/>
          <p:nvPr/>
        </p:nvSpPr>
        <p:spPr>
          <a:xfrm>
            <a:off x="3995640" y="4221000"/>
            <a:ext cx="28908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2" name="Grupo 77"/>
          <p:cNvGrpSpPr/>
          <p:nvPr/>
        </p:nvGrpSpPr>
        <p:grpSpPr>
          <a:xfrm>
            <a:off x="591120" y="3681360"/>
            <a:ext cx="2152800" cy="2454480"/>
            <a:chOff x="591120" y="3681360"/>
            <a:chExt cx="2152800" cy="2454480"/>
          </a:xfrm>
        </p:grpSpPr>
        <p:grpSp>
          <p:nvGrpSpPr>
            <p:cNvPr id="1033" name="Grupo 58"/>
            <p:cNvGrpSpPr/>
            <p:nvPr/>
          </p:nvGrpSpPr>
          <p:grpSpPr>
            <a:xfrm>
              <a:off x="591120" y="3681360"/>
              <a:ext cx="2152800" cy="2454480"/>
              <a:chOff x="591120" y="3681360"/>
              <a:chExt cx="2152800" cy="2454480"/>
            </a:xfrm>
          </p:grpSpPr>
          <p:grpSp>
            <p:nvGrpSpPr>
              <p:cNvPr id="1034" name="Grupo 57"/>
              <p:cNvGrpSpPr/>
              <p:nvPr/>
            </p:nvGrpSpPr>
            <p:grpSpPr>
              <a:xfrm>
                <a:off x="591120" y="4144320"/>
                <a:ext cx="2152800" cy="1991520"/>
                <a:chOff x="591120" y="4144320"/>
                <a:chExt cx="2152800" cy="1991520"/>
              </a:xfrm>
            </p:grpSpPr>
            <p:sp>
              <p:nvSpPr>
                <p:cNvPr id="1035" name="Autoforma 56"/>
                <p:cNvSpPr/>
                <p:nvPr/>
              </p:nvSpPr>
              <p:spPr>
                <a:xfrm rot="2509200">
                  <a:off x="418680" y="4920840"/>
                  <a:ext cx="2496960" cy="438120"/>
                </a:xfrm>
                <a:custGeom>
                  <a:avLst/>
                  <a:gdLst>
                    <a:gd name="textAreaLeft" fmla="*/ 249120 w 2496960"/>
                    <a:gd name="textAreaRight" fmla="*/ 2247840 w 2496960"/>
                    <a:gd name="textAreaTop" fmla="*/ 250920 h 438120"/>
                    <a:gd name="textAreaBottom" fmla="*/ 376200 h 43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800" y="0"/>
                      </a:moveTo>
                      <a:lnTo>
                        <a:pt x="6480" y="6171"/>
                      </a:lnTo>
                      <a:lnTo>
                        <a:pt x="8640" y="6171"/>
                      </a:lnTo>
                      <a:lnTo>
                        <a:pt x="8640" y="12343"/>
                      </a:lnTo>
                      <a:lnTo>
                        <a:pt x="4320" y="12343"/>
                      </a:lnTo>
                      <a:lnTo>
                        <a:pt x="4320" y="9257"/>
                      </a:lnTo>
                      <a:lnTo>
                        <a:pt x="0" y="15429"/>
                      </a:lnTo>
                      <a:lnTo>
                        <a:pt x="4320" y="21600"/>
                      </a:lnTo>
                      <a:lnTo>
                        <a:pt x="4320" y="18514"/>
                      </a:lnTo>
                      <a:lnTo>
                        <a:pt x="17280" y="18514"/>
                      </a:lnTo>
                      <a:lnTo>
                        <a:pt x="17280" y="21600"/>
                      </a:lnTo>
                      <a:lnTo>
                        <a:pt x="21600" y="15429"/>
                      </a:lnTo>
                      <a:lnTo>
                        <a:pt x="17280" y="9257"/>
                      </a:lnTo>
                      <a:lnTo>
                        <a:pt x="17280" y="12343"/>
                      </a:lnTo>
                      <a:lnTo>
                        <a:pt x="12960" y="12343"/>
                      </a:lnTo>
                      <a:lnTo>
                        <a:pt x="12960" y="6171"/>
                      </a:lnTo>
                      <a:lnTo>
                        <a:pt x="15120" y="6171"/>
                      </a:lnTo>
                      <a:lnTo>
                        <a:pt x="1080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6" name="Elipse 12"/>
                <p:cNvSpPr/>
                <p:nvPr/>
              </p:nvSpPr>
              <p:spPr>
                <a:xfrm>
                  <a:off x="1492200" y="4786200"/>
                  <a:ext cx="507960" cy="5000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LDL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C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7" name="Forma libre 21"/>
              <p:cNvSpPr/>
              <p:nvPr/>
            </p:nvSpPr>
            <p:spPr>
              <a:xfrm rot="16200000">
                <a:off x="1126800" y="4041720"/>
                <a:ext cx="936720" cy="21600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499" h="317">
                    <a:moveTo>
                      <a:pt x="499" y="227"/>
                    </a:moveTo>
                    <a:cubicBezTo>
                      <a:pt x="461" y="151"/>
                      <a:pt x="423" y="75"/>
                      <a:pt x="363" y="45"/>
                    </a:cubicBezTo>
                    <a:cubicBezTo>
                      <a:pt x="303" y="15"/>
                      <a:pt x="196" y="0"/>
                      <a:pt x="136" y="45"/>
                    </a:cubicBezTo>
                    <a:cubicBezTo>
                      <a:pt x="76" y="90"/>
                      <a:pt x="23" y="279"/>
                      <a:pt x="0" y="317"/>
                    </a:cubicBezTo>
                  </a:path>
                </a:pathLst>
              </a:cu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8" name="Elipse 67"/>
            <p:cNvSpPr/>
            <p:nvPr/>
          </p:nvSpPr>
          <p:spPr>
            <a:xfrm>
              <a:off x="1979640" y="476244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9" name="Línea 50"/>
          <p:cNvSpPr/>
          <p:nvPr/>
        </p:nvSpPr>
        <p:spPr>
          <a:xfrm flipH="1">
            <a:off x="6643440" y="3929040"/>
            <a:ext cx="2854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66 CuadroTexto"/>
          <p:cNvSpPr/>
          <p:nvPr/>
        </p:nvSpPr>
        <p:spPr>
          <a:xfrm>
            <a:off x="6147000" y="41432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ice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58 Arco"/>
          <p:cNvSpPr/>
          <p:nvPr/>
        </p:nvSpPr>
        <p:spPr>
          <a:xfrm flipH="1" flipV="1" rot="9127200">
            <a:off x="7007760" y="2707920"/>
            <a:ext cx="579240" cy="62676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0000"/>
                </a:solidFill>
                <a:latin typeface="Arial Rounded MT Bold"/>
              </a:rPr>
              <a:t>Captación del Colesterol de las LDL por endocitosis  facilitada por recep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Imagen 5" descr=""/>
          <p:cNvPicPr/>
          <p:nvPr/>
        </p:nvPicPr>
        <p:blipFill>
          <a:blip r:embed="rId1"/>
          <a:stretch/>
        </p:blipFill>
        <p:spPr>
          <a:xfrm>
            <a:off x="2525760" y="1484280"/>
            <a:ext cx="5832360" cy="5373720"/>
          </a:xfrm>
          <a:prstGeom prst="rect">
            <a:avLst/>
          </a:prstGeom>
          <a:ln w="0">
            <a:noFill/>
          </a:ln>
        </p:spPr>
      </p:pic>
      <p:sp>
        <p:nvSpPr>
          <p:cNvPr id="1044" name="Rectángulo 3"/>
          <p:cNvSpPr/>
          <p:nvPr/>
        </p:nvSpPr>
        <p:spPr>
          <a:xfrm>
            <a:off x="250920" y="1916280"/>
            <a:ext cx="187308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-  Receptores de LDL </a:t>
            </a:r>
            <a:r>
              <a:rPr b="0" lang="es-AR" sz="2000" spc="-1" strike="noStrike">
                <a:solidFill>
                  <a:srgbClr val="ff0000"/>
                </a:solidFill>
                <a:latin typeface="Arial Rounded MT Bold"/>
              </a:rPr>
              <a:t>regulable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y </a:t>
            </a:r>
            <a:r>
              <a:rPr b="0" lang="es-AR" sz="2000" spc="-1" strike="noStrike">
                <a:solidFill>
                  <a:srgbClr val="ff0000"/>
                </a:solidFill>
                <a:latin typeface="Arial Rounded MT Bold"/>
              </a:rPr>
              <a:t>saturables</a:t>
            </a: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 por los niveles de colester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os QM y las VLD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Elipse 7"/>
          <p:cNvSpPr/>
          <p:nvPr/>
        </p:nvSpPr>
        <p:spPr>
          <a:xfrm>
            <a:off x="6858000" y="1857240"/>
            <a:ext cx="1785960" cy="1500480"/>
          </a:xfrm>
          <a:prstGeom prst="ellipse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ed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dotel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ángulo 10"/>
          <p:cNvSpPr/>
          <p:nvPr/>
        </p:nvSpPr>
        <p:spPr>
          <a:xfrm>
            <a:off x="324000" y="3645000"/>
            <a:ext cx="5256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Cuadro de texto 13"/>
          <p:cNvSpPr/>
          <p:nvPr/>
        </p:nvSpPr>
        <p:spPr>
          <a:xfrm>
            <a:off x="6929280" y="3714840"/>
            <a:ext cx="169560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Rectángulo 10"/>
          <p:cNvSpPr/>
          <p:nvPr/>
        </p:nvSpPr>
        <p:spPr>
          <a:xfrm>
            <a:off x="363600" y="5072040"/>
            <a:ext cx="52560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ORMONO SENSIBLE (L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Cuadro de texto 13"/>
          <p:cNvSpPr/>
          <p:nvPr/>
        </p:nvSpPr>
        <p:spPr>
          <a:xfrm>
            <a:off x="6916680" y="5143680"/>
            <a:ext cx="1798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Tejido adipo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Elipse 11"/>
          <p:cNvSpPr/>
          <p:nvPr/>
        </p:nvSpPr>
        <p:spPr>
          <a:xfrm>
            <a:off x="5715000" y="5286240"/>
            <a:ext cx="1214280" cy="714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Hormo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3 Grupo"/>
          <p:cNvGrpSpPr/>
          <p:nvPr/>
        </p:nvGrpSpPr>
        <p:grpSpPr>
          <a:xfrm>
            <a:off x="380880" y="878040"/>
            <a:ext cx="8382240" cy="5101920"/>
            <a:chOff x="380880" y="878040"/>
            <a:chExt cx="8382240" cy="5101920"/>
          </a:xfrm>
        </p:grpSpPr>
        <p:pic>
          <p:nvPicPr>
            <p:cNvPr id="1055" name="Imagen 3" descr=""/>
            <p:cNvPicPr/>
            <p:nvPr/>
          </p:nvPicPr>
          <p:blipFill>
            <a:blip r:embed="rId1"/>
            <a:stretch/>
          </p:blipFill>
          <p:spPr>
            <a:xfrm>
              <a:off x="380880" y="878040"/>
              <a:ext cx="83822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2 CuadroTexto"/>
            <p:cNvSpPr/>
            <p:nvPr/>
          </p:nvSpPr>
          <p:spPr>
            <a:xfrm>
              <a:off x="5786640" y="4286160"/>
              <a:ext cx="2214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L y algunas HD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Imagen 3" descr=""/>
          <p:cNvPicPr/>
          <p:nvPr/>
        </p:nvPicPr>
        <p:blipFill>
          <a:blip r:embed="rId1"/>
          <a:stretch/>
        </p:blipFill>
        <p:spPr>
          <a:xfrm>
            <a:off x="214200" y="2133720"/>
            <a:ext cx="4954680" cy="3510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trigi+1"/>
          <p:cNvPicPr/>
          <p:nvPr/>
        </p:nvPicPr>
        <p:blipFill>
          <a:blip r:embed="rId2"/>
          <a:stretch/>
        </p:blipFill>
        <p:spPr>
          <a:xfrm>
            <a:off x="5451480" y="105264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"/>
          <p:cNvPicPr/>
          <p:nvPr/>
        </p:nvPicPr>
        <p:blipFill>
          <a:blip r:embed="rId3"/>
          <a:stretch/>
        </p:blipFill>
        <p:spPr>
          <a:xfrm>
            <a:off x="5451480" y="4363920"/>
            <a:ext cx="3565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Rounded MT Bold"/>
              </a:rPr>
              <a:t>Metabolismo de las HD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8" name="Grupo 11"/>
          <p:cNvGrpSpPr/>
          <p:nvPr/>
        </p:nvGrpSpPr>
        <p:grpSpPr>
          <a:xfrm>
            <a:off x="-41400" y="2653200"/>
            <a:ext cx="2868480" cy="2201040"/>
            <a:chOff x="-41400" y="2653200"/>
            <a:chExt cx="2868480" cy="2201040"/>
          </a:xfrm>
        </p:grpSpPr>
        <p:sp>
          <p:nvSpPr>
            <p:cNvPr id="1059" name="Forma libre 12"/>
            <p:cNvSpPr/>
            <p:nvPr/>
          </p:nvSpPr>
          <p:spPr>
            <a:xfrm rot="20554800">
              <a:off x="126720" y="2997000"/>
              <a:ext cx="2531880" cy="1512720"/>
            </a:xfrm>
            <a:custGeom>
              <a:avLst/>
              <a:gdLst>
                <a:gd name="textAreaLeft" fmla="*/ 0 w 2531880"/>
                <a:gd name="textAreaRight" fmla="*/ 2532240 w 253188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1731" h="1203">
                  <a:moveTo>
                    <a:pt x="31" y="738"/>
                  </a:moveTo>
                  <a:lnTo>
                    <a:pt x="36" y="712"/>
                  </a:lnTo>
                  <a:lnTo>
                    <a:pt x="42" y="683"/>
                  </a:lnTo>
                  <a:lnTo>
                    <a:pt x="48" y="651"/>
                  </a:lnTo>
                  <a:lnTo>
                    <a:pt x="54" y="619"/>
                  </a:lnTo>
                  <a:lnTo>
                    <a:pt x="64" y="549"/>
                  </a:lnTo>
                  <a:lnTo>
                    <a:pt x="76" y="476"/>
                  </a:lnTo>
                  <a:lnTo>
                    <a:pt x="90" y="404"/>
                  </a:lnTo>
                  <a:lnTo>
                    <a:pt x="112" y="334"/>
                  </a:lnTo>
                  <a:lnTo>
                    <a:pt x="123" y="303"/>
                  </a:lnTo>
                  <a:lnTo>
                    <a:pt x="140" y="272"/>
                  </a:lnTo>
                  <a:lnTo>
                    <a:pt x="157" y="245"/>
                  </a:lnTo>
                  <a:lnTo>
                    <a:pt x="177" y="221"/>
                  </a:lnTo>
                  <a:lnTo>
                    <a:pt x="199" y="199"/>
                  </a:lnTo>
                  <a:lnTo>
                    <a:pt x="227" y="177"/>
                  </a:lnTo>
                  <a:lnTo>
                    <a:pt x="286" y="137"/>
                  </a:lnTo>
                  <a:lnTo>
                    <a:pt x="350" y="100"/>
                  </a:lnTo>
                  <a:lnTo>
                    <a:pt x="424" y="70"/>
                  </a:lnTo>
                  <a:lnTo>
                    <a:pt x="499" y="42"/>
                  </a:lnTo>
                  <a:lnTo>
                    <a:pt x="571" y="22"/>
                  </a:lnTo>
                  <a:lnTo>
                    <a:pt x="645" y="8"/>
                  </a:lnTo>
                  <a:lnTo>
                    <a:pt x="712" y="0"/>
                  </a:lnTo>
                  <a:lnTo>
                    <a:pt x="746" y="0"/>
                  </a:lnTo>
                  <a:lnTo>
                    <a:pt x="779" y="2"/>
                  </a:lnTo>
                  <a:lnTo>
                    <a:pt x="813" y="8"/>
                  </a:lnTo>
                  <a:lnTo>
                    <a:pt x="846" y="18"/>
                  </a:lnTo>
                  <a:lnTo>
                    <a:pt x="880" y="28"/>
                  </a:lnTo>
                  <a:lnTo>
                    <a:pt x="913" y="40"/>
                  </a:lnTo>
                  <a:lnTo>
                    <a:pt x="978" y="66"/>
                  </a:lnTo>
                  <a:lnTo>
                    <a:pt x="1043" y="95"/>
                  </a:lnTo>
                  <a:lnTo>
                    <a:pt x="1104" y="123"/>
                  </a:lnTo>
                  <a:lnTo>
                    <a:pt x="1160" y="148"/>
                  </a:lnTo>
                  <a:lnTo>
                    <a:pt x="1186" y="157"/>
                  </a:lnTo>
                  <a:lnTo>
                    <a:pt x="1211" y="166"/>
                  </a:lnTo>
                  <a:lnTo>
                    <a:pt x="1253" y="177"/>
                  </a:lnTo>
                  <a:lnTo>
                    <a:pt x="1292" y="187"/>
                  </a:lnTo>
                  <a:lnTo>
                    <a:pt x="1323" y="195"/>
                  </a:lnTo>
                  <a:lnTo>
                    <a:pt x="1353" y="203"/>
                  </a:lnTo>
                  <a:lnTo>
                    <a:pt x="1381" y="207"/>
                  </a:lnTo>
                  <a:lnTo>
                    <a:pt x="1407" y="207"/>
                  </a:lnTo>
                  <a:lnTo>
                    <a:pt x="1435" y="207"/>
                  </a:lnTo>
                  <a:lnTo>
                    <a:pt x="1466" y="203"/>
                  </a:lnTo>
                  <a:lnTo>
                    <a:pt x="1482" y="199"/>
                  </a:lnTo>
                  <a:lnTo>
                    <a:pt x="1499" y="193"/>
                  </a:lnTo>
                  <a:lnTo>
                    <a:pt x="1519" y="184"/>
                  </a:lnTo>
                  <a:lnTo>
                    <a:pt x="1536" y="173"/>
                  </a:lnTo>
                  <a:lnTo>
                    <a:pt x="1569" y="158"/>
                  </a:lnTo>
                  <a:lnTo>
                    <a:pt x="1707" y="176"/>
                  </a:lnTo>
                  <a:lnTo>
                    <a:pt x="1713" y="200"/>
                  </a:lnTo>
                  <a:lnTo>
                    <a:pt x="1713" y="212"/>
                  </a:lnTo>
                  <a:lnTo>
                    <a:pt x="1719" y="224"/>
                  </a:lnTo>
                  <a:lnTo>
                    <a:pt x="1697" y="198"/>
                  </a:lnTo>
                  <a:lnTo>
                    <a:pt x="1701" y="200"/>
                  </a:lnTo>
                  <a:lnTo>
                    <a:pt x="1731" y="212"/>
                  </a:lnTo>
                  <a:lnTo>
                    <a:pt x="1725" y="176"/>
                  </a:lnTo>
                  <a:lnTo>
                    <a:pt x="1719" y="182"/>
                  </a:lnTo>
                  <a:lnTo>
                    <a:pt x="1719" y="200"/>
                  </a:lnTo>
                  <a:lnTo>
                    <a:pt x="1689" y="176"/>
                  </a:lnTo>
                  <a:lnTo>
                    <a:pt x="1723" y="177"/>
                  </a:lnTo>
                  <a:lnTo>
                    <a:pt x="1721" y="209"/>
                  </a:lnTo>
                  <a:lnTo>
                    <a:pt x="1718" y="241"/>
                  </a:lnTo>
                  <a:lnTo>
                    <a:pt x="1707" y="312"/>
                  </a:lnTo>
                  <a:lnTo>
                    <a:pt x="1693" y="386"/>
                  </a:lnTo>
                  <a:lnTo>
                    <a:pt x="1684" y="422"/>
                  </a:lnTo>
                  <a:lnTo>
                    <a:pt x="1673" y="456"/>
                  </a:lnTo>
                  <a:lnTo>
                    <a:pt x="1665" y="488"/>
                  </a:lnTo>
                  <a:lnTo>
                    <a:pt x="1653" y="516"/>
                  </a:lnTo>
                  <a:lnTo>
                    <a:pt x="1639" y="541"/>
                  </a:lnTo>
                  <a:lnTo>
                    <a:pt x="1628" y="563"/>
                  </a:lnTo>
                  <a:lnTo>
                    <a:pt x="1614" y="581"/>
                  </a:lnTo>
                  <a:lnTo>
                    <a:pt x="1598" y="597"/>
                  </a:lnTo>
                  <a:lnTo>
                    <a:pt x="1561" y="625"/>
                  </a:lnTo>
                  <a:lnTo>
                    <a:pt x="1516" y="644"/>
                  </a:lnTo>
                  <a:lnTo>
                    <a:pt x="1471" y="661"/>
                  </a:lnTo>
                  <a:lnTo>
                    <a:pt x="1424" y="672"/>
                  </a:lnTo>
                  <a:lnTo>
                    <a:pt x="1379" y="683"/>
                  </a:lnTo>
                  <a:lnTo>
                    <a:pt x="1343" y="690"/>
                  </a:lnTo>
                  <a:lnTo>
                    <a:pt x="1311" y="701"/>
                  </a:lnTo>
                  <a:lnTo>
                    <a:pt x="1300" y="704"/>
                  </a:lnTo>
                  <a:lnTo>
                    <a:pt x="1292" y="706"/>
                  </a:lnTo>
                  <a:lnTo>
                    <a:pt x="1283" y="708"/>
                  </a:lnTo>
                  <a:lnTo>
                    <a:pt x="1281" y="708"/>
                  </a:lnTo>
                  <a:lnTo>
                    <a:pt x="1278" y="704"/>
                  </a:lnTo>
                  <a:lnTo>
                    <a:pt x="1272" y="704"/>
                  </a:lnTo>
                  <a:lnTo>
                    <a:pt x="1258" y="708"/>
                  </a:lnTo>
                  <a:lnTo>
                    <a:pt x="1250" y="715"/>
                  </a:lnTo>
                  <a:lnTo>
                    <a:pt x="1236" y="720"/>
                  </a:lnTo>
                  <a:lnTo>
                    <a:pt x="1219" y="728"/>
                  </a:lnTo>
                  <a:lnTo>
                    <a:pt x="1202" y="738"/>
                  </a:lnTo>
                  <a:lnTo>
                    <a:pt x="1158" y="764"/>
                  </a:lnTo>
                  <a:lnTo>
                    <a:pt x="1107" y="796"/>
                  </a:lnTo>
                  <a:lnTo>
                    <a:pt x="1051" y="828"/>
                  </a:lnTo>
                  <a:lnTo>
                    <a:pt x="995" y="861"/>
                  </a:lnTo>
                  <a:lnTo>
                    <a:pt x="939" y="892"/>
                  </a:lnTo>
                  <a:lnTo>
                    <a:pt x="886" y="915"/>
                  </a:lnTo>
                  <a:lnTo>
                    <a:pt x="863" y="925"/>
                  </a:lnTo>
                  <a:lnTo>
                    <a:pt x="841" y="933"/>
                  </a:lnTo>
                  <a:lnTo>
                    <a:pt x="821" y="939"/>
                  </a:lnTo>
                  <a:lnTo>
                    <a:pt x="802" y="941"/>
                  </a:lnTo>
                  <a:lnTo>
                    <a:pt x="765" y="945"/>
                  </a:lnTo>
                  <a:lnTo>
                    <a:pt x="732" y="941"/>
                  </a:lnTo>
                  <a:lnTo>
                    <a:pt x="698" y="937"/>
                  </a:lnTo>
                  <a:lnTo>
                    <a:pt x="667" y="931"/>
                  </a:lnTo>
                  <a:lnTo>
                    <a:pt x="637" y="925"/>
                  </a:lnTo>
                  <a:lnTo>
                    <a:pt x="603" y="923"/>
                  </a:lnTo>
                  <a:lnTo>
                    <a:pt x="569" y="925"/>
                  </a:lnTo>
                  <a:lnTo>
                    <a:pt x="530" y="931"/>
                  </a:lnTo>
                  <a:lnTo>
                    <a:pt x="488" y="939"/>
                  </a:lnTo>
                  <a:lnTo>
                    <a:pt x="404" y="961"/>
                  </a:lnTo>
                  <a:lnTo>
                    <a:pt x="362" y="973"/>
                  </a:lnTo>
                  <a:lnTo>
                    <a:pt x="322" y="985"/>
                  </a:lnTo>
                  <a:lnTo>
                    <a:pt x="289" y="998"/>
                  </a:lnTo>
                  <a:lnTo>
                    <a:pt x="261" y="1012"/>
                  </a:lnTo>
                  <a:lnTo>
                    <a:pt x="239" y="1029"/>
                  </a:lnTo>
                  <a:lnTo>
                    <a:pt x="221" y="1048"/>
                  </a:lnTo>
                  <a:lnTo>
                    <a:pt x="210" y="1069"/>
                  </a:lnTo>
                  <a:lnTo>
                    <a:pt x="202" y="1088"/>
                  </a:lnTo>
                  <a:lnTo>
                    <a:pt x="193" y="1108"/>
                  </a:lnTo>
                  <a:lnTo>
                    <a:pt x="185" y="1126"/>
                  </a:lnTo>
                  <a:lnTo>
                    <a:pt x="179" y="1142"/>
                  </a:lnTo>
                  <a:lnTo>
                    <a:pt x="168" y="1156"/>
                  </a:lnTo>
                  <a:lnTo>
                    <a:pt x="157" y="1166"/>
                  </a:lnTo>
                  <a:lnTo>
                    <a:pt x="149" y="1175"/>
                  </a:lnTo>
                  <a:lnTo>
                    <a:pt x="126" y="1188"/>
                  </a:lnTo>
                  <a:lnTo>
                    <a:pt x="107" y="1192"/>
                  </a:lnTo>
                  <a:lnTo>
                    <a:pt x="84" y="1193"/>
                  </a:lnTo>
                  <a:lnTo>
                    <a:pt x="73" y="1196"/>
                  </a:lnTo>
                  <a:lnTo>
                    <a:pt x="62" y="1200"/>
                  </a:lnTo>
                  <a:lnTo>
                    <a:pt x="48" y="1202"/>
                  </a:lnTo>
                  <a:lnTo>
                    <a:pt x="34" y="1203"/>
                  </a:lnTo>
                  <a:lnTo>
                    <a:pt x="22" y="1202"/>
                  </a:lnTo>
                  <a:lnTo>
                    <a:pt x="14" y="1193"/>
                  </a:lnTo>
                  <a:lnTo>
                    <a:pt x="8" y="1188"/>
                  </a:lnTo>
                  <a:lnTo>
                    <a:pt x="6" y="1180"/>
                  </a:lnTo>
                  <a:lnTo>
                    <a:pt x="3" y="1170"/>
                  </a:lnTo>
                  <a:lnTo>
                    <a:pt x="0" y="1156"/>
                  </a:lnTo>
                  <a:lnTo>
                    <a:pt x="0" y="1140"/>
                  </a:lnTo>
                  <a:lnTo>
                    <a:pt x="0" y="1120"/>
                  </a:lnTo>
                  <a:lnTo>
                    <a:pt x="0" y="1096"/>
                  </a:lnTo>
                  <a:lnTo>
                    <a:pt x="0" y="1070"/>
                  </a:lnTo>
                  <a:lnTo>
                    <a:pt x="3" y="1042"/>
                  </a:lnTo>
                  <a:lnTo>
                    <a:pt x="6" y="1012"/>
                  </a:lnTo>
                  <a:lnTo>
                    <a:pt x="11" y="951"/>
                  </a:lnTo>
                  <a:lnTo>
                    <a:pt x="17" y="889"/>
                  </a:lnTo>
                  <a:lnTo>
                    <a:pt x="22" y="830"/>
                  </a:lnTo>
                  <a:lnTo>
                    <a:pt x="26" y="802"/>
                  </a:lnTo>
                  <a:lnTo>
                    <a:pt x="28" y="778"/>
                  </a:lnTo>
                  <a:lnTo>
                    <a:pt x="31" y="756"/>
                  </a:lnTo>
                  <a:lnTo>
                    <a:pt x="31" y="738"/>
                  </a:lnTo>
                </a:path>
              </a:pathLst>
            </a:cu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Cuadro de texto 13"/>
            <p:cNvSpPr/>
            <p:nvPr/>
          </p:nvSpPr>
          <p:spPr>
            <a:xfrm>
              <a:off x="630000" y="35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44 Grupo"/>
          <p:cNvGrpSpPr/>
          <p:nvPr/>
        </p:nvGrpSpPr>
        <p:grpSpPr>
          <a:xfrm>
            <a:off x="854640" y="3715200"/>
            <a:ext cx="3012480" cy="2944800"/>
            <a:chOff x="854640" y="3715200"/>
            <a:chExt cx="3012480" cy="2944800"/>
          </a:xfrm>
        </p:grpSpPr>
        <p:sp>
          <p:nvSpPr>
            <p:cNvPr id="1062" name="Forma libre 22"/>
            <p:cNvSpPr/>
            <p:nvPr/>
          </p:nvSpPr>
          <p:spPr>
            <a:xfrm rot="1707000">
              <a:off x="1672920" y="3929040"/>
              <a:ext cx="993600" cy="377640"/>
            </a:xfrm>
            <a:custGeom>
              <a:avLst/>
              <a:gdLst>
                <a:gd name="textAreaLeft" fmla="*/ 0 w 993600"/>
                <a:gd name="textAreaRight" fmla="*/ 993960 w 9936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99" h="317">
                  <a:moveTo>
                    <a:pt x="499" y="227"/>
                  </a:moveTo>
                  <a:cubicBezTo>
                    <a:pt x="461" y="151"/>
                    <a:pt x="423" y="75"/>
                    <a:pt x="363" y="45"/>
                  </a:cubicBezTo>
                  <a:cubicBezTo>
                    <a:pt x="303" y="15"/>
                    <a:pt x="196" y="0"/>
                    <a:pt x="136" y="45"/>
                  </a:cubicBezTo>
                  <a:cubicBezTo>
                    <a:pt x="76" y="90"/>
                    <a:pt x="23" y="279"/>
                    <a:pt x="0" y="317"/>
                  </a:cubicBezTo>
                </a:path>
              </a:pathLst>
            </a:cu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Autoforma 69"/>
            <p:cNvSpPr/>
            <p:nvPr/>
          </p:nvSpPr>
          <p:spPr>
            <a:xfrm>
              <a:off x="2776680" y="4138560"/>
              <a:ext cx="1081080" cy="71892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 I-IV,CII,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Autoforma 70"/>
            <p:cNvSpPr/>
            <p:nvPr/>
          </p:nvSpPr>
          <p:spPr>
            <a:xfrm rot="18666000">
              <a:off x="1425240" y="4915800"/>
              <a:ext cx="647640" cy="1809720"/>
            </a:xfrm>
            <a:prstGeom prst="can">
              <a:avLst>
                <a:gd name="adj" fmla="val 832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sti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orma libre 72"/>
            <p:cNvSpPr/>
            <p:nvPr/>
          </p:nvSpPr>
          <p:spPr>
            <a:xfrm rot="19074000">
              <a:off x="1746000" y="4868280"/>
              <a:ext cx="1069920" cy="37764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99" h="317">
                  <a:moveTo>
                    <a:pt x="499" y="227"/>
                  </a:moveTo>
                  <a:cubicBezTo>
                    <a:pt x="461" y="151"/>
                    <a:pt x="423" y="75"/>
                    <a:pt x="363" y="45"/>
                  </a:cubicBezTo>
                  <a:cubicBezTo>
                    <a:pt x="303" y="15"/>
                    <a:pt x="196" y="0"/>
                    <a:pt x="136" y="45"/>
                  </a:cubicBezTo>
                  <a:cubicBezTo>
                    <a:pt x="76" y="90"/>
                    <a:pt x="23" y="279"/>
                    <a:pt x="0" y="317"/>
                  </a:cubicBezTo>
                </a:path>
              </a:pathLst>
            </a:cu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Cuadro de texto 73"/>
            <p:cNvSpPr/>
            <p:nvPr/>
          </p:nvSpPr>
          <p:spPr>
            <a:xfrm>
              <a:off x="2714760" y="4776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DL discoi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34 Grupo"/>
          <p:cNvGrpSpPr/>
          <p:nvPr/>
        </p:nvGrpSpPr>
        <p:grpSpPr>
          <a:xfrm>
            <a:off x="3286080" y="1285920"/>
            <a:ext cx="1360440" cy="1692720"/>
            <a:chOff x="3286080" y="1285920"/>
            <a:chExt cx="1360440" cy="1692720"/>
          </a:xfrm>
        </p:grpSpPr>
        <p:sp>
          <p:nvSpPr>
            <p:cNvPr id="1068" name="31 CuadroTexto"/>
            <p:cNvSpPr/>
            <p:nvPr/>
          </p:nvSpPr>
          <p:spPr>
            <a:xfrm flipH="1">
              <a:off x="3673800" y="2610360"/>
              <a:ext cx="7981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I-IV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32 CuadroTexto"/>
            <p:cNvSpPr/>
            <p:nvPr/>
          </p:nvSpPr>
          <p:spPr>
            <a:xfrm>
              <a:off x="3286080" y="1441440"/>
              <a:ext cx="5479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33 CuadroTexto"/>
            <p:cNvSpPr/>
            <p:nvPr/>
          </p:nvSpPr>
          <p:spPr>
            <a:xfrm>
              <a:off x="3913920" y="1285920"/>
              <a:ext cx="45756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Elipse 75"/>
            <p:cNvSpPr/>
            <p:nvPr/>
          </p:nvSpPr>
          <p:spPr>
            <a:xfrm>
              <a:off x="3520080" y="1602000"/>
              <a:ext cx="1126440" cy="10994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DL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2" name="42 Grupo"/>
          <p:cNvGrpSpPr/>
          <p:nvPr/>
        </p:nvGrpSpPr>
        <p:grpSpPr>
          <a:xfrm>
            <a:off x="4483800" y="1029240"/>
            <a:ext cx="2884320" cy="2053800"/>
            <a:chOff x="4483800" y="1029240"/>
            <a:chExt cx="2884320" cy="2053800"/>
          </a:xfrm>
        </p:grpSpPr>
        <p:sp>
          <p:nvSpPr>
            <p:cNvPr id="1073" name="Cuadro de texto 67"/>
            <p:cNvSpPr/>
            <p:nvPr/>
          </p:nvSpPr>
          <p:spPr>
            <a:xfrm rot="21172800">
              <a:off x="4893480" y="1832760"/>
              <a:ext cx="93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ET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Elipse 17"/>
            <p:cNvSpPr/>
            <p:nvPr/>
          </p:nvSpPr>
          <p:spPr>
            <a:xfrm rot="340800">
              <a:off x="6017400" y="1292040"/>
              <a:ext cx="1296720" cy="11523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L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DL Q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Autoforma 76"/>
            <p:cNvSpPr/>
            <p:nvPr/>
          </p:nvSpPr>
          <p:spPr>
            <a:xfrm rot="4872600">
              <a:off x="5090040" y="1734840"/>
              <a:ext cx="606240" cy="1747080"/>
            </a:xfrm>
            <a:custGeom>
              <a:avLst/>
              <a:gdLst>
                <a:gd name="textAreaLeft" fmla="*/ 81000 w 606240"/>
                <a:gd name="textAreaRight" fmla="*/ 525240 w 606240"/>
                <a:gd name="textAreaTop" fmla="*/ 367920 h 1747080"/>
                <a:gd name="textAreaBottom" fmla="*/ 1287360 h 174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2999511"/>
                  <a:lnTo>
                    <a:pt x="7200" y="21080"/>
                  </a:lnTo>
                  <a:lnTo>
                    <a:pt x="0" y="19332"/>
                  </a:lnTo>
                  <a:lnTo>
                    <a:pt x="7200" y="16543"/>
                  </a:lnTo>
                  <a:lnTo>
                    <a:pt x="7200" y="17677"/>
                  </a:lnTo>
                  <a:arcTo wR="21600" hR="9099" stAng="2999511" swAng="-2817699"/>
                  <a:lnTo>
                    <a:pt x="21431" y="10233"/>
                  </a:lnTo>
                  <a:arcTo wR="21600" hR="9099" stAng="-181812" swAng="-5218188"/>
                  <a:close/>
                </a:path>
                <a:path fill="darkenLess"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-181812"/>
                  <a:lnTo>
                    <a:pt x="21431" y="10233"/>
                  </a:lnTo>
                  <a:arcTo wR="21600" hR="9099" stAng="-181812" swAng="-5218188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Cuadro de texto 77"/>
            <p:cNvSpPr/>
            <p:nvPr/>
          </p:nvSpPr>
          <p:spPr>
            <a:xfrm rot="340800">
              <a:off x="5280480" y="268704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Autoforma 79"/>
            <p:cNvSpPr/>
            <p:nvPr/>
          </p:nvSpPr>
          <p:spPr>
            <a:xfrm rot="21150000">
              <a:off x="4549320" y="1171440"/>
              <a:ext cx="1611720" cy="504720"/>
            </a:xfrm>
            <a:custGeom>
              <a:avLst/>
              <a:gdLst>
                <a:gd name="textAreaLeft" fmla="*/ 316440 w 1611720"/>
                <a:gd name="textAreaRight" fmla="*/ 1180080 w 161172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2" y="0"/>
                  </a:lnTo>
                  <a:arcTo wR="8486" hR="21600" stAng="-5400000" swAng="2880912"/>
                  <a:lnTo>
                    <a:pt x="21115" y="14400"/>
                  </a:lnTo>
                  <a:lnTo>
                    <a:pt x="18515" y="21600"/>
                  </a:lnTo>
                  <a:lnTo>
                    <a:pt x="14945" y="14400"/>
                  </a:lnTo>
                  <a:lnTo>
                    <a:pt x="16487" y="14400"/>
                  </a:lnTo>
                  <a:arcTo wR="8486" hR="21600" stAng="-2519088" swAng="-2631611"/>
                  <a:lnTo>
                    <a:pt x="10029" y="360"/>
                  </a:lnTo>
                  <a:arcTo wR="8486" hR="21600" stAng="-5649301" swAng="-5150699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301"/>
                  <a:lnTo>
                    <a:pt x="10029" y="360"/>
                  </a:lnTo>
                  <a:arcTo wR="8486" hR="21600" stAng="-5649301" swAng="-51506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Cuadro de texto 80"/>
            <p:cNvSpPr/>
            <p:nvPr/>
          </p:nvSpPr>
          <p:spPr>
            <a:xfrm rot="340800">
              <a:off x="4863960" y="105660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43 Grupo"/>
          <p:cNvGrpSpPr/>
          <p:nvPr/>
        </p:nvGrpSpPr>
        <p:grpSpPr>
          <a:xfrm>
            <a:off x="2808360" y="2711880"/>
            <a:ext cx="1192320" cy="1360080"/>
            <a:chOff x="2808360" y="2711880"/>
            <a:chExt cx="1192320" cy="1360080"/>
          </a:xfrm>
        </p:grpSpPr>
        <p:sp>
          <p:nvSpPr>
            <p:cNvPr id="1080" name="42 CuadroTexto"/>
            <p:cNvSpPr/>
            <p:nvPr/>
          </p:nvSpPr>
          <p:spPr>
            <a:xfrm flipH="1" rot="17936400">
              <a:off x="2920680" y="2919960"/>
              <a:ext cx="96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LCAT (+A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ínea 74"/>
            <p:cNvSpPr/>
            <p:nvPr/>
          </p:nvSpPr>
          <p:spPr>
            <a:xfrm flipV="1">
              <a:off x="3566880" y="2948040"/>
              <a:ext cx="433800" cy="112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Línea 83"/>
          <p:cNvSpPr/>
          <p:nvPr/>
        </p:nvSpPr>
        <p:spPr>
          <a:xfrm flipH="1" flipV="1">
            <a:off x="4285800" y="3857760"/>
            <a:ext cx="714600" cy="78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41 Grupo"/>
          <p:cNvGrpSpPr/>
          <p:nvPr/>
        </p:nvGrpSpPr>
        <p:grpSpPr>
          <a:xfrm>
            <a:off x="3857760" y="4508640"/>
            <a:ext cx="4314600" cy="1635120"/>
            <a:chOff x="3857760" y="4508640"/>
            <a:chExt cx="4314600" cy="1635120"/>
          </a:xfrm>
        </p:grpSpPr>
        <p:sp>
          <p:nvSpPr>
            <p:cNvPr id="1084" name="Autoforma 21"/>
            <p:cNvSpPr/>
            <p:nvPr/>
          </p:nvSpPr>
          <p:spPr>
            <a:xfrm>
              <a:off x="4930920" y="5207040"/>
              <a:ext cx="3241440" cy="936720"/>
            </a:xfrm>
            <a:prstGeom prst="flowChartPunched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EJIDO EXTRAHEPATIC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Elipse 71"/>
            <p:cNvSpPr/>
            <p:nvPr/>
          </p:nvSpPr>
          <p:spPr>
            <a:xfrm>
              <a:off x="4714920" y="4630680"/>
              <a:ext cx="93492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b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ínea 87"/>
            <p:cNvSpPr/>
            <p:nvPr/>
          </p:nvSpPr>
          <p:spPr>
            <a:xfrm flipH="1" flipV="1">
              <a:off x="3857760" y="4508640"/>
              <a:ext cx="861840" cy="635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7" name="43 Grupo"/>
          <p:cNvGrpSpPr/>
          <p:nvPr/>
        </p:nvGrpSpPr>
        <p:grpSpPr>
          <a:xfrm>
            <a:off x="2358360" y="2257200"/>
            <a:ext cx="2060640" cy="2242440"/>
            <a:chOff x="2358360" y="2257200"/>
            <a:chExt cx="2060640" cy="2242440"/>
          </a:xfrm>
        </p:grpSpPr>
        <p:sp>
          <p:nvSpPr>
            <p:cNvPr id="1088" name="Cuadro de texto 19"/>
            <p:cNvSpPr/>
            <p:nvPr/>
          </p:nvSpPr>
          <p:spPr>
            <a:xfrm rot="19665600">
              <a:off x="2399040" y="2647440"/>
              <a:ext cx="649080" cy="3405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 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Autoforma 81"/>
            <p:cNvSpPr/>
            <p:nvPr/>
          </p:nvSpPr>
          <p:spPr>
            <a:xfrm flipH="1" flipV="1" rot="12491400">
              <a:off x="2943360" y="2307960"/>
              <a:ext cx="566640" cy="1393200"/>
            </a:xfrm>
            <a:custGeom>
              <a:avLst/>
              <a:gdLst>
                <a:gd name="textAreaLeft" fmla="*/ 75960 w 566640"/>
                <a:gd name="textAreaRight" fmla="*/ 490680 w 566640"/>
                <a:gd name="textAreaTop" fmla="*/ 254880 h 1393200"/>
                <a:gd name="textAreaBottom" fmla="*/ 1013760 h 139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03" stAng="-5400000" swAng="-5400000"/>
                  <a:lnTo>
                    <a:pt x="0" y="11767"/>
                  </a:lnTo>
                  <a:arcTo wR="21600" hR="7903" stAng="10800000" swAng="-2758785"/>
                  <a:lnTo>
                    <a:pt x="14400" y="21148"/>
                  </a:lnTo>
                  <a:lnTo>
                    <a:pt x="21600" y="17737"/>
                  </a:lnTo>
                  <a:lnTo>
                    <a:pt x="14400" y="13422"/>
                  </a:lnTo>
                  <a:lnTo>
                    <a:pt x="14400" y="15353"/>
                  </a:lnTo>
                  <a:arcTo wR="21600" hR="7903" stAng="8041215" swAng="2442570"/>
                  <a:lnTo>
                    <a:pt x="655" y="9835"/>
                  </a:lnTo>
                  <a:arcTo wR="21600" hR="7903" stAng="-10483785" swAng="5083785"/>
                  <a:close/>
                </a:path>
                <a:path fill="darkenLess" w="21600" h="21600">
                  <a:moveTo>
                    <a:pt x="21600" y="0"/>
                  </a:moveTo>
                  <a:arcTo wR="21600" hR="7903" stAng="-5400000" swAng="-5400000"/>
                  <a:lnTo>
                    <a:pt x="0" y="7903"/>
                  </a:lnTo>
                  <a:arcTo wR="21600" hR="7903" stAng="10800000" swAng="-316215"/>
                  <a:lnTo>
                    <a:pt x="655" y="9835"/>
                  </a:lnTo>
                  <a:arcTo wR="21600" hR="7903" stAng="-10483785" swAng="508378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0" name="35 Grupo"/>
            <p:cNvGrpSpPr/>
            <p:nvPr/>
          </p:nvGrpSpPr>
          <p:grpSpPr>
            <a:xfrm>
              <a:off x="3286440" y="3190680"/>
              <a:ext cx="1132560" cy="1308960"/>
              <a:chOff x="3286440" y="3190680"/>
              <a:chExt cx="1132560" cy="1308960"/>
            </a:xfrm>
          </p:grpSpPr>
          <p:sp>
            <p:nvSpPr>
              <p:cNvPr id="1091" name="36 CuadroTexto"/>
              <p:cNvSpPr/>
              <p:nvPr/>
            </p:nvSpPr>
            <p:spPr>
              <a:xfrm flipH="1" flipV="1" rot="10800000">
                <a:off x="3632760" y="4131000"/>
                <a:ext cx="78588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AI-IV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37 CuadroTexto"/>
              <p:cNvSpPr/>
              <p:nvPr/>
            </p:nvSpPr>
            <p:spPr>
              <a:xfrm>
                <a:off x="3286440" y="3327120"/>
                <a:ext cx="490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I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38 CuadroTexto"/>
              <p:cNvSpPr/>
              <p:nvPr/>
            </p:nvSpPr>
            <p:spPr>
              <a:xfrm>
                <a:off x="3848400" y="3190680"/>
                <a:ext cx="409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Elipse 75"/>
              <p:cNvSpPr/>
              <p:nvPr/>
            </p:nvSpPr>
            <p:spPr>
              <a:xfrm>
                <a:off x="3495600" y="3466800"/>
                <a:ext cx="709920" cy="622440"/>
              </a:xfrm>
              <a:prstGeom prst="ellipse">
                <a:avLst/>
              </a:prstGeom>
              <a:solidFill>
                <a:srgbClr val="d7e4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5" name="Línea 83"/>
          <p:cNvSpPr/>
          <p:nvPr/>
        </p:nvSpPr>
        <p:spPr>
          <a:xfrm flipH="1" flipV="1">
            <a:off x="4214520" y="2928960"/>
            <a:ext cx="785880" cy="171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45 Flecha izquierda"/>
          <p:cNvSpPr/>
          <p:nvPr/>
        </p:nvSpPr>
        <p:spPr>
          <a:xfrm>
            <a:off x="1643040" y="3643200"/>
            <a:ext cx="178596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as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ángulo 8"/>
          <p:cNvSpPr/>
          <p:nvPr/>
        </p:nvSpPr>
        <p:spPr>
          <a:xfrm>
            <a:off x="539640" y="1930320"/>
            <a:ext cx="48592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Leciti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Elipse 9"/>
          <p:cNvSpPr/>
          <p:nvPr/>
        </p:nvSpPr>
        <p:spPr>
          <a:xfrm>
            <a:off x="6588000" y="1785960"/>
            <a:ext cx="17290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Elipse 12"/>
          <p:cNvSpPr/>
          <p:nvPr/>
        </p:nvSpPr>
        <p:spPr>
          <a:xfrm>
            <a:off x="5580000" y="2146320"/>
            <a:ext cx="92088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(+ A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ángulo 8"/>
          <p:cNvSpPr/>
          <p:nvPr/>
        </p:nvSpPr>
        <p:spPr>
          <a:xfrm>
            <a:off x="500040" y="4278240"/>
            <a:ext cx="485928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Aci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Colestero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Acil Transferasa (A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Elipse 9"/>
          <p:cNvSpPr/>
          <p:nvPr/>
        </p:nvSpPr>
        <p:spPr>
          <a:xfrm>
            <a:off x="6548400" y="4133880"/>
            <a:ext cx="1728720" cy="1295280"/>
          </a:xfrm>
          <a:prstGeom prst="ellipse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s hep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</a:rPr>
              <a:t>Acción de la 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11 Grupo"/>
          <p:cNvGrpSpPr/>
          <p:nvPr/>
        </p:nvGrpSpPr>
        <p:grpSpPr>
          <a:xfrm>
            <a:off x="1357200" y="2071800"/>
            <a:ext cx="6264360" cy="3497040"/>
            <a:chOff x="1357200" y="2071800"/>
            <a:chExt cx="6264360" cy="3497040"/>
          </a:xfrm>
        </p:grpSpPr>
        <p:pic>
          <p:nvPicPr>
            <p:cNvPr id="1105" name="Imagen 4" descr="LCAT"/>
            <p:cNvPicPr/>
            <p:nvPr/>
          </p:nvPicPr>
          <p:blipFill>
            <a:blip r:embed="rId1"/>
            <a:stretch/>
          </p:blipFill>
          <p:spPr>
            <a:xfrm>
              <a:off x="1357200" y="2071800"/>
              <a:ext cx="6264360" cy="34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6" name="Grupo 10"/>
            <p:cNvGrpSpPr/>
            <p:nvPr/>
          </p:nvGrpSpPr>
          <p:grpSpPr>
            <a:xfrm>
              <a:off x="2097000" y="3081240"/>
              <a:ext cx="5500800" cy="2427480"/>
              <a:chOff x="2097000" y="3081240"/>
              <a:chExt cx="5500800" cy="2427480"/>
            </a:xfrm>
          </p:grpSpPr>
          <p:sp>
            <p:nvSpPr>
              <p:cNvPr id="1107" name="Cuadro de texto 5"/>
              <p:cNvSpPr/>
              <p:nvPr/>
            </p:nvSpPr>
            <p:spPr>
              <a:xfrm>
                <a:off x="2889360" y="3081240"/>
                <a:ext cx="1655640" cy="45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Cuadro de texto 6"/>
              <p:cNvSpPr/>
              <p:nvPr/>
            </p:nvSpPr>
            <p:spPr>
              <a:xfrm>
                <a:off x="2097000" y="5140440"/>
                <a:ext cx="21430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ster de Coleste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Cuadro de texto 7"/>
              <p:cNvSpPr/>
              <p:nvPr/>
            </p:nvSpPr>
            <p:spPr>
              <a:xfrm>
                <a:off x="4330800" y="3441600"/>
                <a:ext cx="2714400" cy="549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ecitin colesterol Acil Transferasa (LCAT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Cuadro de texto 8"/>
              <p:cNvSpPr/>
              <p:nvPr/>
            </p:nvSpPr>
            <p:spPr>
              <a:xfrm>
                <a:off x="6057720" y="3152880"/>
                <a:ext cx="15400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Fosfatidilcolin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Cuadro de texto 9"/>
              <p:cNvSpPr/>
              <p:nvPr/>
            </p:nvSpPr>
            <p:spPr>
              <a:xfrm>
                <a:off x="5049720" y="5097600"/>
                <a:ext cx="21592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Lisofosfatidilcolin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112" name="10 Conector recto de flecha"/>
            <p:cNvCxnSpPr/>
            <p:nvPr/>
          </p:nvCxnSpPr>
          <p:spPr>
            <a:xfrm flipH="1">
              <a:off x="4595400" y="3438000"/>
              <a:ext cx="2160" cy="929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sterificación del colesterol intrace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4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1115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6" name="Grupo 12"/>
          <p:cNvGrpSpPr/>
          <p:nvPr/>
        </p:nvGrpSpPr>
        <p:grpSpPr>
          <a:xfrm>
            <a:off x="1619280" y="3213000"/>
            <a:ext cx="4897440" cy="3412440"/>
            <a:chOff x="1619280" y="3213000"/>
            <a:chExt cx="4897440" cy="3412440"/>
          </a:xfrm>
        </p:grpSpPr>
        <p:sp>
          <p:nvSpPr>
            <p:cNvPr id="1117" name="Cuadro de texto 6"/>
            <p:cNvSpPr/>
            <p:nvPr/>
          </p:nvSpPr>
          <p:spPr>
            <a:xfrm>
              <a:off x="3995640" y="3213000"/>
              <a:ext cx="165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Cuadro de texto 8"/>
            <p:cNvSpPr/>
            <p:nvPr/>
          </p:nvSpPr>
          <p:spPr>
            <a:xfrm>
              <a:off x="1619280" y="3645000"/>
              <a:ext cx="287964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acil CoA-Colesterol Transferasa (ACA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Cuadro de texto 11"/>
            <p:cNvSpPr/>
            <p:nvPr/>
          </p:nvSpPr>
          <p:spPr>
            <a:xfrm>
              <a:off x="3780000" y="6165720"/>
              <a:ext cx="273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2" descr=""/>
          <p:cNvPicPr/>
          <p:nvPr/>
        </p:nvPicPr>
        <p:blipFill>
          <a:blip r:embed="rId1"/>
          <a:stretch/>
        </p:blipFill>
        <p:spPr>
          <a:xfrm>
            <a:off x="504720" y="476280"/>
            <a:ext cx="8434440" cy="6121440"/>
          </a:xfrm>
          <a:prstGeom prst="rect">
            <a:avLst/>
          </a:prstGeom>
          <a:ln w="0">
            <a:noFill/>
          </a:ln>
        </p:spPr>
      </p:pic>
      <p:cxnSp>
        <p:nvCxnSpPr>
          <p:cNvPr id="1123" name="3 Conector recto de flecha"/>
          <p:cNvCxnSpPr/>
          <p:nvPr/>
        </p:nvCxnSpPr>
        <p:spPr>
          <a:xfrm flipV="1">
            <a:off x="5928120" y="1642680"/>
            <a:ext cx="1072440" cy="1215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en 2" descr=""/>
          <p:cNvPicPr/>
          <p:nvPr/>
        </p:nvPicPr>
        <p:blipFill>
          <a:blip r:embed="rId1"/>
          <a:stretch/>
        </p:blipFill>
        <p:spPr>
          <a:xfrm>
            <a:off x="461880" y="1071720"/>
            <a:ext cx="8253360" cy="5364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1 CuadroTexto"/>
          <p:cNvSpPr/>
          <p:nvPr/>
        </p:nvSpPr>
        <p:spPr>
          <a:xfrm>
            <a:off x="571680" y="642960"/>
            <a:ext cx="8321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</a:rPr>
              <a:t>ácidos grasos saturad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 varían en composición de 4 a 26 átomos de carbo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9640" y="1643040"/>
          <a:ext cx="8175600" cy="4425840"/>
        </p:xfrm>
        <a:graphic>
          <a:graphicData uri="http://schemas.openxmlformats.org/drawingml/2006/table">
            <a:tbl>
              <a:tblPr/>
              <a:tblGrid>
                <a:gridCol w="1594080"/>
                <a:gridCol w="1492200"/>
                <a:gridCol w="1490760"/>
                <a:gridCol w="3598560"/>
              </a:tblGrid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</a:t>
                      </a:r>
                      <a:r>
                        <a:rPr b="0" lang="es-E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í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áp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áu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o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rís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tr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lmí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steá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aquíd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icos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0" name="7 CuadroTexto"/>
          <p:cNvSpPr/>
          <p:nvPr/>
        </p:nvSpPr>
        <p:spPr>
          <a:xfrm>
            <a:off x="1519200" y="61437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*</a:t>
            </a:r>
            <a:r>
              <a:rPr b="0" lang="es-ES" sz="1800" spc="-1" strike="noStrike">
                <a:solidFill>
                  <a:srgbClr val="ff0000"/>
                </a:solidFill>
                <a:latin typeface="Calibri"/>
                <a:ea typeface="Arial"/>
              </a:rPr>
              <a:t> Ácidos grasos saturados presentes en los ali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1 CuadroTexto"/>
          <p:cNvSpPr/>
          <p:nvPr/>
        </p:nvSpPr>
        <p:spPr>
          <a:xfrm>
            <a:off x="538200" y="69840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insaturad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 poseen dobles ligaduras en su cadena y tienen gran actividad química puesto que se hidrolizan y oxidan fácilmen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siguientes son los ácidos grasos insaturados más comunes en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limentos de origen vegetal y pescados</a:t>
            </a:r>
            <a:r>
              <a:rPr b="0" lang="es-ES" sz="2000" spc="-1" strike="noStrike">
                <a:solidFill>
                  <a:srgbClr val="0099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14240" y="3279600"/>
          <a:ext cx="7858440" cy="3389400"/>
        </p:xfrm>
        <a:graphic>
          <a:graphicData uri="http://schemas.openxmlformats.org/drawingml/2006/table">
            <a:tbl>
              <a:tblPr/>
              <a:tblGrid>
                <a:gridCol w="1143000"/>
                <a:gridCol w="2786040"/>
                <a:gridCol w="1071720"/>
                <a:gridCol w="2857680"/>
              </a:tblGrid>
              <a:tr h="384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</a:t>
                      </a:r>
                      <a:r>
                        <a:rPr b="0" lang="es-ES_tradnl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-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1ω9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-octadec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73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-d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2ω6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-octadecad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0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é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:15-tr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3ω3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,15-octadecatr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31" descr="acs grasos insaturados"/>
          <p:cNvPicPr/>
          <p:nvPr/>
        </p:nvPicPr>
        <p:blipFill>
          <a:blip r:embed="rId5"/>
          <a:stretch/>
        </p:blipFill>
        <p:spPr>
          <a:xfrm>
            <a:off x="5221440" y="631800"/>
            <a:ext cx="3311280" cy="2365560"/>
          </a:xfrm>
          <a:prstGeom prst="rect">
            <a:avLst/>
          </a:prstGeom>
          <a:ln w="0">
            <a:noFill/>
          </a:ln>
        </p:spPr>
      </p:pic>
      <p:sp>
        <p:nvSpPr>
          <p:cNvPr id="564" name="Elipse 1"/>
          <p:cNvSpPr/>
          <p:nvPr/>
        </p:nvSpPr>
        <p:spPr>
          <a:xfrm>
            <a:off x="7885080" y="3860640"/>
            <a:ext cx="5032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lipse 5"/>
          <p:cNvSpPr/>
          <p:nvPr/>
        </p:nvSpPr>
        <p:spPr>
          <a:xfrm>
            <a:off x="7812000" y="4797360"/>
            <a:ext cx="505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lipse 6"/>
          <p:cNvSpPr/>
          <p:nvPr/>
        </p:nvSpPr>
        <p:spPr>
          <a:xfrm>
            <a:off x="7020000" y="479736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Elipse 7"/>
          <p:cNvSpPr/>
          <p:nvPr/>
        </p:nvSpPr>
        <p:spPr>
          <a:xfrm>
            <a:off x="7740720" y="5877000"/>
            <a:ext cx="5032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lipse 8"/>
          <p:cNvSpPr/>
          <p:nvPr/>
        </p:nvSpPr>
        <p:spPr>
          <a:xfrm>
            <a:off x="7020000" y="5877000"/>
            <a:ext cx="504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lipse 9"/>
          <p:cNvSpPr/>
          <p:nvPr/>
        </p:nvSpPr>
        <p:spPr>
          <a:xfrm>
            <a:off x="6227640" y="5877000"/>
            <a:ext cx="505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sp3191"/>
          <p:cNvPicPr/>
          <p:nvPr/>
        </p:nvPicPr>
        <p:blipFill>
          <a:blip r:embed="rId1"/>
          <a:stretch/>
        </p:blipFill>
        <p:spPr>
          <a:xfrm>
            <a:off x="971640" y="1833480"/>
            <a:ext cx="1785960" cy="2530440"/>
          </a:xfrm>
          <a:prstGeom prst="rect">
            <a:avLst/>
          </a:prstGeom>
          <a:ln w="0">
            <a:noFill/>
          </a:ln>
        </p:spPr>
      </p:pic>
      <p:sp>
        <p:nvSpPr>
          <p:cNvPr id="571" name="10 CuadroTexto"/>
          <p:cNvSpPr/>
          <p:nvPr/>
        </p:nvSpPr>
        <p:spPr>
          <a:xfrm>
            <a:off x="2916360" y="37958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onde: R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idos grasos saturados y/o insatu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3059280" y="2852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3780000" y="210672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Principal constituyente de las grasas de los alimentos de origen an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5867280" y="1628640"/>
            <a:ext cx="2760840" cy="2708280"/>
            <a:chOff x="5867280" y="1628640"/>
            <a:chExt cx="2760840" cy="2708280"/>
          </a:xfrm>
        </p:grpSpPr>
        <p:pic>
          <p:nvPicPr>
            <p:cNvPr id="575" name="Picture 18" descr="grasas animales"/>
            <p:cNvPicPr/>
            <p:nvPr/>
          </p:nvPicPr>
          <p:blipFill>
            <a:blip r:embed="rId2"/>
            <a:srcRect l="21571" t="10843" r="0" b="0"/>
            <a:stretch/>
          </p:blipFill>
          <p:spPr>
            <a:xfrm>
              <a:off x="5940360" y="1628640"/>
              <a:ext cx="268776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Rectangle 19"/>
            <p:cNvSpPr/>
            <p:nvPr/>
          </p:nvSpPr>
          <p:spPr>
            <a:xfrm>
              <a:off x="5867280" y="1628640"/>
              <a:ext cx="100980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1 CuadroTexto"/>
          <p:cNvSpPr/>
          <p:nvPr/>
        </p:nvSpPr>
        <p:spPr>
          <a:xfrm>
            <a:off x="468360" y="374760"/>
            <a:ext cx="83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Lípidos compuestos- Triglicéridos o grasas neu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3"/>
          <p:cNvGrpSpPr/>
          <p:nvPr/>
        </p:nvGrpSpPr>
        <p:grpSpPr>
          <a:xfrm>
            <a:off x="5940360" y="476280"/>
            <a:ext cx="2592360" cy="2388240"/>
            <a:chOff x="5940360" y="476280"/>
            <a:chExt cx="2592360" cy="2388240"/>
          </a:xfrm>
        </p:grpSpPr>
        <p:pic>
          <p:nvPicPr>
            <p:cNvPr id="579" name="Picture 2" descr="17 Estructura CHO"/>
            <p:cNvPicPr/>
            <p:nvPr/>
          </p:nvPicPr>
          <p:blipFill>
            <a:blip r:embed="rId1">
              <a:grayscl/>
              <a:lum contrast="8000"/>
            </a:blip>
            <a:stretch/>
          </p:blipFill>
          <p:spPr>
            <a:xfrm>
              <a:off x="5940360" y="476280"/>
              <a:ext cx="2592360" cy="21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5 CuadroTexto"/>
            <p:cNvSpPr/>
            <p:nvPr/>
          </p:nvSpPr>
          <p:spPr>
            <a:xfrm>
              <a:off x="6802200" y="24962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1" name="Picture 16" descr="contenido de colesterol en los alimentos"/>
          <p:cNvPicPr/>
          <p:nvPr/>
        </p:nvPicPr>
        <p:blipFill>
          <a:blip r:embed="rId2"/>
          <a:stretch/>
        </p:blipFill>
        <p:spPr>
          <a:xfrm>
            <a:off x="611280" y="2530440"/>
            <a:ext cx="8281800" cy="4327560"/>
          </a:xfrm>
          <a:prstGeom prst="rect">
            <a:avLst/>
          </a:prstGeom>
          <a:ln w="0">
            <a:noFill/>
          </a:ln>
        </p:spPr>
      </p:pic>
      <p:sp>
        <p:nvSpPr>
          <p:cNvPr id="582" name="1 CuadroTexto"/>
          <p:cNvSpPr/>
          <p:nvPr/>
        </p:nvSpPr>
        <p:spPr>
          <a:xfrm>
            <a:off x="826920" y="450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Esteroles- C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Ana</cp:lastModifiedBy>
  <dcterms:modified xsi:type="dcterms:W3CDTF">2015-09-21T21:52:19Z</dcterms:modified>
  <cp:revision>139</cp:revision>
  <dc:subject/>
  <dc:title>Presentación de PowerPoint</dc:title>
</cp:coreProperties>
</file>